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88EA-6DA4-4573-B6CC-C0CC9F70D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AA7C-FC11-4FC5-B721-8F5F1DB2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37754B-FAA9-4945-806B-47355AFA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7EC03F-3BE6-4568-BDF5-2C198C17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A38665-422C-490F-B149-F4B9466F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A0CA0E-E83C-4E66-9BB0-5D7F69B1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81B6FA-1F46-4CDF-A7F2-2DB01F7D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B5DF6A-EC9A-4E76-8859-2C23039D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164B7-75B4-4545-A979-A459DFFA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28D1FC-7CD0-4D85-BA7A-887EB0D9B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5EED7-007F-487B-95C7-DE8F5DE8B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DB66DD-46E1-453E-B8C9-D7BBD4F0C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C735-161F-40F6-AFA3-2F5817198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35726F-286F-4202-B59D-679E75B8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783238-C31C-4A00-9794-AF8BAAF4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437233-BE73-4890-9DEE-9BD3B0D2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0C69DA-D1C2-4FD9-9187-22AC0F39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5244BC-CB75-4DF1-9937-5FA59D8B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68C67B-07E5-4BE7-8F92-47450DF7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B58929-1FBA-4D45-94B0-E94F69AA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90D9EA-5CDC-4309-AEA0-F0285F35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6ECBD4-70ED-4AF2-8878-8C02C09E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7DA3BD-709C-42ED-BC2C-68D34D7B7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002B-8654-4AA7-B771-2373857E6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AD7737-AB48-4215-AB9D-437E86F85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F5338-3501-4FD2-94F8-FFB390AD2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0687D9-5C8F-40B0-88D6-85519DE5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AC24C-26F4-4DC7-B411-C5BA77C9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2FA41-81D9-49A9-B87F-CA981B03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406336-8F03-45AA-B599-4DD299D1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8B890A-EB79-44E9-A4A0-31BEED5E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3C652-ED5E-4AF3-B36A-28F5FCE1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9CB730-E179-4B77-BE1F-A4DE8190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EE4D8D-BA8C-4841-8D65-F245F3E7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F2EC-376D-458E-9C03-7091A7086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9EA6F-B75F-4501-B195-EB47F3B4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49B05E-6C8A-4523-86D4-B34E3C756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AB820-C824-4D24-BA7E-68B4C0343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D6A378-F59E-4E6A-BB28-28A05C58A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80D20F-7F2D-4623-9E4F-44A15C3C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EDFF00-D404-4C14-90A7-63EEFDD1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10300A-A420-445D-A083-C8D8BEED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251035-5D3A-4670-818A-2C46CE9A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3CC4D8-E6ED-45A5-B02F-CF051D4F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DD771C-21FC-4831-BF6D-8E80AE5D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A4831-18EB-4C25-8354-9E86CA45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795686-FF2D-4C42-995F-EFDE7AB2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8FB565-24B4-4D95-9E77-6EC0A23F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62BD9D-2830-4954-9247-84EADC1F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E542B0-AF14-4315-8857-CB81B2575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F71413-648E-4F85-B582-A761AEA8A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441A99-1786-44B9-9011-BAB8B0C1D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357525-0105-4E45-A440-EDBC999B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6AC13C-9F2F-4D87-9590-AD3F5909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C613F8-E3BE-47D3-858D-1D9F9643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BDDB31-00FC-4183-8881-CC41EA6A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AAB6-87D8-4AFD-9BE0-E13135BC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2DDDEC-B470-47D9-A813-2A0A690B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05B6B0-5BBB-467F-B284-6B14BCB8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53B666-5ED7-4134-A1A1-7CF5C7A7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849D72-6047-4FC8-8D12-533CC7C0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DBBECC-5929-4B5E-9A83-20842C6B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A8C4AD-5896-4307-8E94-C4DE91BAC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F8CAE7-869D-453B-9560-5162AABD4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494FFA-E8B2-49A7-8DC1-91A0C25CC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B803EB-1E9B-41CC-B765-8DF87238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548660-1363-4497-9CE4-8534E5C2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48C7-3F61-4D24-A1D6-FD2B3E1A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02FE4E-E31D-4916-A4D8-F49A8D89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24616D-3B2D-449A-BC8E-BBE12317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221509-657D-4EFD-8587-ED5FF890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879D97-8DB5-45E0-9B39-82332603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F088FA-73ED-40A6-BD2B-AECD3257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3C968D-6AAA-4A5F-947A-1D0D972A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71B7D3-680E-4AC8-81E9-751EA5E5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648C1A-7EC5-442F-8326-B2EA90DFC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F9919E-B512-4002-8C7B-CC7D21D07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BECFCA-9201-4F3D-AA32-7E555E009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F247-78C3-4730-B19B-37E3F8A7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06C236-A5C3-4405-B1EE-12D82DCD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9C314F-7603-4002-AD07-6B7F49ED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A5BE76-ED85-43C1-90B4-0AE3FD12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584135-C838-409B-A553-693B159B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B561AE-8E89-4EF5-93EC-CA885C65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8582B0-AEDE-406F-8550-FE0C4B39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5F972A-AEDC-45C7-A59E-69A4CE90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3DE5DE-EE70-4C78-AAA6-103D2911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A2D648-C6B3-4077-ABEE-883A0F8C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08E315-39BD-428C-A4DB-13CC68DAF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7952-6313-476E-819D-F6A8F7A2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96D491-AFA0-40EC-A5CE-477E8889B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80CC90-CA96-4ABB-8450-F776108EA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FB898B-33D2-4CD9-9F21-2431DB5B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351336-D25D-4E8F-8C16-A1B420B6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291086-54A7-46FE-8991-A623FB0B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0DCF7C-EECB-451E-BBE9-B8350CBC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3CAA85-0420-46A0-BC5E-5464F566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8239A2-2FF4-43AF-8408-40010B23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185891-6F64-427F-9112-D627C8C2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93933D-8DB0-4563-8324-3C00F39A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62494-4BC5-4536-B7AA-4C478485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8182D1-4693-46FA-8841-65DD6A96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E13F47-53DA-49EF-931E-8F7C2A9F2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A973DA-06B9-42E8-AFD9-F414EF46F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0080CF-7BE1-4E46-B0C6-565DBF0B9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8760EC-C07E-4592-98CC-8105B704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7A2FC9-B0CD-44F9-90DE-11B7B3E2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06619C-21F8-4C9B-BE3C-5F11453C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1B3A81-FBE0-4E90-BF21-25EBA405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AE14DF-8690-4DE9-B27C-FDA7811D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951833-9BA4-47A5-8398-4DF385FA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54B2-0922-4E12-B757-26601EAF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DC45-2D9A-4B83-9609-233D1B1D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9CA661-0BF8-48A0-A54A-E2EA47C6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DF09C9-1CDD-49C7-93D0-38F634EC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CA4A34-A57D-4440-A862-B18C9271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76761D-5032-4C23-9D32-274C550DC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D6B006-F61F-4D6B-97AF-1F44889D4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B84E9F-4B28-4F47-B211-21116D40C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C76EA0-14FD-45D3-B8B5-4F2AB038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6B7A44-AEEF-48F8-BE7C-54B7E105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70D8FB-151E-485B-9E67-5686FAF2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BDCAD4-2E4D-43CE-A956-73DD2FBB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DEDA0-0D3A-4105-B52F-8271E657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B01D6A-3597-4416-A922-6A78DD16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4DF17D-4EAB-4DB6-AE79-C05FDF26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2BBF69-FDA1-4708-A253-ED8AB486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8F3BA4-F637-4AA0-8585-587A9BA9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29ECDB-73D7-4A2B-87B5-B023A3B7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B75951-58BD-4473-AD50-5D4550F00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15FB20-330F-4ACD-8E75-4C398F31E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D27B18-AAF9-45E3-BF9F-F9F908059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EF7EC4-D36C-4174-89AD-1097662D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5B4611-A5FE-4634-8C57-891CA2FD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A688-0B4C-4495-8244-08719938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D0BC98-AD58-4A26-A34D-5BA261D9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B04475-E126-43FD-ABF2-8981443B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E934CF-49ED-465C-8C0F-B003705F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3632CC-B385-4FC7-950E-DDDBA021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A31CBA-0819-406B-A675-56A8B213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1A6A32-88EC-40D3-8E33-591562F7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680234-5BCC-45B4-A2BD-4C4C69E0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0955FA-A754-4EA4-A59A-9C312E061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4E3EE3-420C-4B4C-BEA0-6D2183C6A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8553-FDB8-49A5-937C-5E46A6702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CD4C-3AF6-4402-B398-193105FDD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4FFB0-FEBB-4F05-AFC8-C6AF4BF86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B2846-B67D-48FD-B134-08A90EE6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590F5-24D1-4190-93A3-D7F1E7C3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6A5FA-D181-4425-8855-71AA5579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9B9FE-66F3-402B-A2EA-4E08136C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9AAC-777B-4EE1-87BE-1CCE8473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A62DB-FA85-435B-8DE8-65DDB773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AEB96-EE78-4AEE-BDA6-16DCB0AD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6B27B-7E51-4454-9A37-5FD696D2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1EF2A-A2B8-4938-AEAE-D08CD9CE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1372F-D20D-4A7E-8353-4D16BC4F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BF022-F132-44BA-BC66-D2BBE32FB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A01C0-7902-4465-BA57-93E692827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1B8C4-78F3-48F6-BAAB-1967362E9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7A3E1-9082-4535-9AA6-CAF7A632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ED8B1-A623-4E63-B09A-4F7DAD0C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52F3-BF84-4A89-81AE-38B60232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2C015-0CAF-461E-9219-4F7372B1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5B8D0-0C74-425C-A99C-65C82940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0AA3B-849B-4F01-B74A-29F35BB2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7B369-BC81-4901-9957-71DD2EE5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60A3F-09A4-47DF-AE2B-749BA83A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8A5BF-803D-48FD-BE18-89A498DB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DC37F-B494-4BF1-B775-B2F9C83A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9B7F5-DDDD-47AC-A1D1-A4722B871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D7D8A-FF99-40D3-AC28-3DC82584C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FCDF6-A56C-4A80-B6BC-E5D3E4AD3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4C3D-37E8-4F92-8872-1C28AF6D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57720-A2E2-474C-9D35-BBCFA631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0D4DE-1DA2-4F96-B1A7-D577F7DD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8465C-0620-4FC0-A456-433A8C3F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E9BB1-E2BC-4278-A518-CB279951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3D20B-E700-4B77-8E06-F132AF6E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6CCC5-68DF-4290-9417-8C11B76A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D693C-3A95-40E8-B270-E951E51F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368FD-7225-4F02-8317-6B4ECFE8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79B45-B3CE-4450-A4DC-17CB31F7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31C3C-9321-4538-A2BC-0E8195070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00EE-894F-430A-B1C9-ED75F81D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53A79-7FAA-4DEF-BDAF-EC2394ADD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D5988-5F96-457E-B53C-360C4B402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128CB-C190-4BEA-A830-7554414A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EF8EE-AA1B-4FEC-B373-756904F6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16435-876D-47E2-BCE0-C6C3EDD3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F5834-3535-42C4-B78F-4033D0D3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69C8E-1DC5-4C4E-A9DF-4B7C2433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D384F-E1F3-4374-9670-FDEB0332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50A38-047A-4B46-B78E-C40ECD88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C8E45-6C4F-40DF-8963-0587AE9D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822C-DCAA-431E-A3C5-42BC0039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5092F-2F60-4BA2-A117-E2003899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375CB-B40A-47FD-A807-1A2475C56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39F9A-5A74-43AC-9C30-83FFA387F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C2D12-B12F-4874-AEEA-7771BBF1B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A6499-4D01-4193-879D-918ECE2C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4F817-9783-46D5-97B7-A3A2A395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BD8C1-A9A7-4D84-8209-0ACCF18C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AAD76-A316-484E-BAFD-D046EF37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BDCF7-41B5-4142-B5BE-73635A5B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3149C-38E5-4877-9383-B1B88A4E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3AA4-0A2C-4BD0-9A08-8289E244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9C4EE-A49D-46FB-8DC9-C973BD71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1A766-964F-4531-8539-5C57A632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E639C-844D-4B07-A991-36C83ADD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0FB7E-FC7E-4F48-B61C-AE77736C9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6BB48-3928-4C85-A5BE-657495813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CD950-61C7-490E-8BE1-27B6D0020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84444-694F-476B-B9FF-36F5A856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CFBA9-8973-4A59-8E21-8674B1F6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83297-AE33-4A04-8289-826157D6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A8A2B-F5AD-4CF0-A0AD-BA1D2822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4821-92F2-46A8-84A6-8F9612D0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748AB-BCF6-41E1-9116-E8FD734E6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840A5-202C-40DF-9CF7-F2BE8925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D8A80-0E3C-4163-AD6D-94CA4C5A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3FDDB-C823-4849-B75E-48904BE0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57A10-499E-42C8-8060-9EE57E29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53408-6D67-4D2C-8C42-31FFC5329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8594E-B8C1-4F97-9485-8C12B3F93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B58AD4-C29F-41FE-9025-E87E4A684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C6B2E3-016D-4D02-BCEC-1C85B9F8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1176C2-4148-43CD-86F6-7CC8E4BA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1C54-01F9-4418-AFED-756081869827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482B-492F-4DCE-89A5-F4D8773D497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8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A999-8731-494A-9A44-67DC756980BE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79F2-F225-4B9A-B64B-1D10C334324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2243-702A-40C3-9721-0288460C710E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5F32-8607-4719-9A1D-DB1274140FC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2667-BC8E-4A16-8232-E62870E598FE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0AFE-72BC-4BA6-8AE9-718D09CA2ED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801B-B01C-4D3F-88CD-037E3528A306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A537-C1ED-4FC2-B997-E7E7681499E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4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EE1B-170E-408B-9143-4A17A06B9841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4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4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BA66-26CC-425C-9276-4B0B8CA744E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4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E4A1-B847-4223-869A-225F0E0F5971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4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4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F010-43F8-4D74-B875-A44B113856D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4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4FBB-0327-420B-9F35-A029360543C1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4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4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88C6-C066-44E6-8D76-4E21D5A2C1A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dt" idx="4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9F26-8456-4F03-B1E6-D709AFD24240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 type="ftr" idx="5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 type="sldNum" idx="5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2093-870C-4CD3-9CD5-8DC791A5BA9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5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7039-70C6-40D1-AE5C-E5D6E99A8950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5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5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1B54-5380-47B5-9070-5322ABCE44A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5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B74E-A7E5-4184-8D95-139FC8DA641D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5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5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981A-089D-4982-BC7E-2C9123E1B80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3017-2D7E-4998-8B18-DBA2B0C2F1CE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E04E-2F61-42D0-9442-73CA6F8C3F6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77E5-BE3B-4ECF-8771-9545F73C38E0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0276-9CA5-4838-A643-1D3D9D2BCDF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26C7-E63A-44AA-871C-1A73046FDD7F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67D7-1BF6-47E7-9A33-E7D1A0CEB60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A8BF-3CEC-4D3D-96B8-52CAFE663AE1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9D98-3BBA-4C73-B038-2AA6FFE521A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A1EA-C01E-4573-9495-949C758289D8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C36D-4385-443F-8EDB-2AE96B56707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72C4-53F8-4FBB-BBC0-26AB12C245D6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FB23-DF08-4982-8904-11DC076EF4A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3BCD-6101-45A1-8BAD-934CBF9D90B3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8BCD-B0C6-4D22-B41E-10CDCD69EB9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D9A5-5170-4FC0-A1F1-45B75987F2F6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6457-1195-41CF-A4BD-A6BF2F86B09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8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1 Rectángulo"/>
          <p:cNvSpPr/>
          <p:nvPr/>
        </p:nvSpPr>
        <p:spPr>
          <a:xfrm>
            <a:off x="611280" y="549360"/>
            <a:ext cx="7921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 Rounded MT Bold"/>
              </a:rPr>
              <a:t>Bolilla 5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ffff00"/>
                </a:solidFill>
                <a:uFillTx/>
                <a:latin typeface="Arial Rounded MT Bold"/>
              </a:rPr>
              <a:t>Metabolismo de los lípi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 Rounded MT Bold"/>
              </a:rPr>
              <a:t>- </a:t>
            </a:r>
            <a:r>
              <a:rPr b="1" lang="es-AR" sz="2800" spc="-1" strike="noStrike">
                <a:solidFill>
                  <a:srgbClr val="ffff59"/>
                </a:solidFill>
                <a:latin typeface="Arial Rounded MT Bold"/>
              </a:rPr>
              <a:t>Digestión y absorción de lípid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59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59"/>
                </a:solidFill>
                <a:latin typeface="Arial Rounded MT Bold"/>
              </a:rPr>
              <a:t>Transporte de lípid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59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59"/>
                </a:solidFill>
                <a:latin typeface="Arial Rounded MT Bold"/>
              </a:rPr>
              <a:t>Degradación de Ácidos Gras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59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59"/>
                </a:solidFill>
                <a:latin typeface="Arial Rounded MT Bold"/>
              </a:rPr>
              <a:t>Cuerpos cetónic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Arial Rounded MT Bold"/>
              </a:rPr>
              <a:t>Biosíntesis de Ácidos Gra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 Rounded MT Bold"/>
              </a:rPr>
              <a:t>- Metabolismo del colesterol. Regulación molecula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0693-6D58-4ECD-AE88-091E734DB5F6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791640" y="609120"/>
            <a:ext cx="812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Arial Narrow"/>
              </a:rPr>
              <a:t>Etapas de la Síntesis de Ac. Graso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871280" y="2384280"/>
            <a:ext cx="6643800" cy="330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Compren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Formación de malonil-Co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Reacciones catalizadas por el complejo multienzimático de 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Ácido graso sintas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6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7830-AB45-47BA-B691-B5D163E70953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83800" y="21564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ff00"/>
                </a:solidFill>
                <a:latin typeface="Arial Narrow"/>
              </a:rPr>
              <a:t>1) Formación de malonil-CoA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8317080" cy="24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una carboxilación que requiere H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como fuente de 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taliza: 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acetil-CoA carboxilas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que usa biotina (Vit B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) como coenz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Es el principal sitio de regulación de la síntesis de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81" name="Object 4"/>
          <p:cNvGraphicFramePr/>
          <p:nvPr/>
        </p:nvGraphicFramePr>
        <p:xfrm>
          <a:off x="431640" y="4365720"/>
          <a:ext cx="8282160" cy="138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4365720"/>
                    <a:ext cx="8282160" cy="13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ángulo 15"/>
          <p:cNvSpPr/>
          <p:nvPr/>
        </p:nvSpPr>
        <p:spPr>
          <a:xfrm rot="5400000">
            <a:off x="3201120" y="3319920"/>
            <a:ext cx="647640" cy="144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Cuadro de texto 17"/>
          <p:cNvSpPr/>
          <p:nvPr/>
        </p:nvSpPr>
        <p:spPr>
          <a:xfrm>
            <a:off x="687240" y="1197000"/>
            <a:ext cx="7704360" cy="268452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cetil-CoA Carboxil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-Proteína transportadora de biot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0" i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Biotina carboxil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-Transcarboxil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- Enzima Alosté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Cuadro de texto 23"/>
          <p:cNvSpPr/>
          <p:nvPr/>
        </p:nvSpPr>
        <p:spPr>
          <a:xfrm>
            <a:off x="1744560" y="333360"/>
            <a:ext cx="5761080" cy="5814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Arial"/>
              </a:rPr>
              <a:t>Acetil-CoA Carboxila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Rectángulo 24"/>
          <p:cNvSpPr/>
          <p:nvPr/>
        </p:nvSpPr>
        <p:spPr>
          <a:xfrm>
            <a:off x="687240" y="4351320"/>
            <a:ext cx="759636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Biotina:</a:t>
            </a:r>
            <a:r>
              <a:rPr b="1" lang="es-ES_tradnl" sz="2000" spc="-1" strike="noStrike">
                <a:solidFill>
                  <a:srgbClr val="ffff00"/>
                </a:solidFill>
                <a:latin typeface="Arial"/>
                <a:ea typeface="Arial"/>
              </a:rPr>
              <a:t> Grupo prostético de l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00"/>
                </a:solidFill>
                <a:latin typeface="Arial"/>
                <a:ea typeface="Arial"/>
              </a:rPr>
              <a:t>acetil-CoA Carboxila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1 CuadroTexto"/>
          <p:cNvSpPr/>
          <p:nvPr/>
        </p:nvSpPr>
        <p:spPr>
          <a:xfrm>
            <a:off x="1752840" y="5732640"/>
            <a:ext cx="6328440" cy="3682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  <a:ea typeface="Arial"/>
              </a:rPr>
              <a:t>TAMBIEN TIENE REGULACIÓN HORMONAL Y DIET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ángulo 4"/>
          <p:cNvSpPr/>
          <p:nvPr/>
        </p:nvSpPr>
        <p:spPr>
          <a:xfrm>
            <a:off x="25092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  <a:ea typeface="Arial"/>
              </a:rPr>
              <a:t>REACCION Y REGULACIÓN DE LA </a:t>
            </a:r>
            <a:r>
              <a:rPr b="1" i="1" lang="es-ES" sz="3200" spc="-1" strike="noStrike">
                <a:solidFill>
                  <a:srgbClr val="ffff00"/>
                </a:solidFill>
                <a:latin typeface="Arial"/>
                <a:ea typeface="Arial"/>
              </a:rPr>
              <a:t>ACETIL-CoA CARBOXILASA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Cuadro de texto 5"/>
          <p:cNvSpPr/>
          <p:nvPr/>
        </p:nvSpPr>
        <p:spPr>
          <a:xfrm>
            <a:off x="208080" y="3071880"/>
            <a:ext cx="144756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Acetil-C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Cuadro de texto 6"/>
          <p:cNvSpPr/>
          <p:nvPr/>
        </p:nvSpPr>
        <p:spPr>
          <a:xfrm>
            <a:off x="3203640" y="3284640"/>
            <a:ext cx="1655640" cy="717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3300"/>
                </a:solidFill>
                <a:latin typeface="Arial"/>
                <a:ea typeface="Arial"/>
              </a:rPr>
              <a:t>Acetil-CoA carboxil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Cuadro de texto 7"/>
          <p:cNvSpPr/>
          <p:nvPr/>
        </p:nvSpPr>
        <p:spPr>
          <a:xfrm>
            <a:off x="2340000" y="3068640"/>
            <a:ext cx="838080" cy="405720"/>
          </a:xfrm>
          <a:prstGeom prst="rect">
            <a:avLst/>
          </a:prstGeom>
          <a:solidFill>
            <a:srgbClr val="f9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  <a:ea typeface="Arial"/>
              </a:rPr>
              <a:t>HCO</a:t>
            </a:r>
            <a:r>
              <a:rPr b="1" lang="es-ES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3</a:t>
            </a:r>
            <a:r>
              <a:rPr b="1" lang="es-ES" sz="18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Cuadro de texto 9"/>
          <p:cNvSpPr/>
          <p:nvPr/>
        </p:nvSpPr>
        <p:spPr>
          <a:xfrm>
            <a:off x="6084720" y="4005360"/>
            <a:ext cx="172728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Malonil-C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Cuadro de texto 10"/>
          <p:cNvSpPr/>
          <p:nvPr/>
        </p:nvSpPr>
        <p:spPr>
          <a:xfrm>
            <a:off x="324000" y="2852640"/>
            <a:ext cx="194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Imagen 11"/>
          <p:cNvSpPr/>
          <p:nvPr/>
        </p:nvSpPr>
        <p:spPr>
          <a:xfrm>
            <a:off x="250920" y="2565360"/>
            <a:ext cx="20113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Línea 12"/>
          <p:cNvSpPr/>
          <p:nvPr/>
        </p:nvSpPr>
        <p:spPr>
          <a:xfrm>
            <a:off x="3276720" y="3284640"/>
            <a:ext cx="194616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Cuadro de texto 13"/>
          <p:cNvSpPr/>
          <p:nvPr/>
        </p:nvSpPr>
        <p:spPr>
          <a:xfrm>
            <a:off x="3276720" y="278136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ATP      ADP + Pi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Autoforma 14"/>
          <p:cNvSpPr/>
          <p:nvPr/>
        </p:nvSpPr>
        <p:spPr>
          <a:xfrm>
            <a:off x="3708360" y="3068640"/>
            <a:ext cx="792360" cy="216000"/>
          </a:xfrm>
          <a:custGeom>
            <a:avLst/>
            <a:gdLst>
              <a:gd name="textAreaLeft" fmla="*/ 138600 w 792360"/>
              <a:gd name="textAreaRight" fmla="*/ 574560 w 79236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Cuadro de texto 16"/>
          <p:cNvSpPr/>
          <p:nvPr/>
        </p:nvSpPr>
        <p:spPr>
          <a:xfrm>
            <a:off x="1692360" y="306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9" name="Grupo 20"/>
          <p:cNvGrpSpPr/>
          <p:nvPr/>
        </p:nvGrpSpPr>
        <p:grpSpPr>
          <a:xfrm>
            <a:off x="5292720" y="2276640"/>
            <a:ext cx="3959280" cy="1617480"/>
            <a:chOff x="5292720" y="2276640"/>
            <a:chExt cx="3959280" cy="1617480"/>
          </a:xfrm>
        </p:grpSpPr>
        <p:pic>
          <p:nvPicPr>
            <p:cNvPr id="900" name="Imagen 17" descr="MALONCOA"/>
            <p:cNvPicPr/>
            <p:nvPr/>
          </p:nvPicPr>
          <p:blipFill>
            <a:blip r:embed="rId1"/>
            <a:srcRect l="0" t="0" r="17937" b="18488"/>
            <a:stretch/>
          </p:blipFill>
          <p:spPr>
            <a:xfrm>
              <a:off x="5292720" y="2276640"/>
              <a:ext cx="3166920" cy="16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1" name="Cuadro de texto 19"/>
            <p:cNvSpPr/>
            <p:nvPr/>
          </p:nvSpPr>
          <p:spPr>
            <a:xfrm>
              <a:off x="8459640" y="292428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+ H+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2" name="Cuadro de texto 22"/>
          <p:cNvSpPr/>
          <p:nvPr/>
        </p:nvSpPr>
        <p:spPr>
          <a:xfrm>
            <a:off x="5219640" y="2349360"/>
            <a:ext cx="1368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Cuadro de texto 24"/>
          <p:cNvSpPr/>
          <p:nvPr/>
        </p:nvSpPr>
        <p:spPr>
          <a:xfrm>
            <a:off x="826920" y="5157720"/>
            <a:ext cx="1656000" cy="717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3300"/>
                </a:solidFill>
                <a:latin typeface="Arial"/>
                <a:ea typeface="Arial"/>
              </a:rPr>
              <a:t>Acetil-CoA carboxil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Autoforma 25"/>
          <p:cNvSpPr/>
          <p:nvPr/>
        </p:nvSpPr>
        <p:spPr>
          <a:xfrm>
            <a:off x="2843280" y="4581360"/>
            <a:ext cx="504720" cy="1872000"/>
          </a:xfrm>
          <a:custGeom>
            <a:avLst/>
            <a:gdLst>
              <a:gd name="textAreaLeft" fmla="*/ 322560 w 504720"/>
              <a:gd name="textAreaRight" fmla="*/ 505080 w 504720"/>
              <a:gd name="textAreaTop" fmla="*/ 48600 h 1872000"/>
              <a:gd name="textAreaBottom" fmla="*/ 1823400 h 18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Cuadro de texto 26"/>
          <p:cNvSpPr/>
          <p:nvPr/>
        </p:nvSpPr>
        <p:spPr>
          <a:xfrm rot="20057400">
            <a:off x="4354200" y="3860640"/>
            <a:ext cx="1079640" cy="368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Arial"/>
                <a:ea typeface="Arial"/>
              </a:rPr>
              <a:t>biot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Cuadro de texto 27"/>
          <p:cNvSpPr/>
          <p:nvPr/>
        </p:nvSpPr>
        <p:spPr>
          <a:xfrm>
            <a:off x="3203640" y="5084640"/>
            <a:ext cx="1224000" cy="3682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Díme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Cuadro de texto 28"/>
          <p:cNvSpPr/>
          <p:nvPr/>
        </p:nvSpPr>
        <p:spPr>
          <a:xfrm>
            <a:off x="6732720" y="5013360"/>
            <a:ext cx="2087280" cy="642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Forma filamento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Línea 29"/>
          <p:cNvSpPr/>
          <p:nvPr/>
        </p:nvSpPr>
        <p:spPr>
          <a:xfrm>
            <a:off x="4932360" y="5229360"/>
            <a:ext cx="12240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Elipse 30"/>
          <p:cNvSpPr/>
          <p:nvPr/>
        </p:nvSpPr>
        <p:spPr>
          <a:xfrm>
            <a:off x="4896000" y="4653000"/>
            <a:ext cx="1188720" cy="576360"/>
          </a:xfrm>
          <a:prstGeom prst="ellipse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Arial"/>
              </a:rPr>
              <a:t>Citrato (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Elipse 31"/>
          <p:cNvSpPr/>
          <p:nvPr/>
        </p:nvSpPr>
        <p:spPr>
          <a:xfrm>
            <a:off x="3348000" y="5516640"/>
            <a:ext cx="1224000" cy="576360"/>
          </a:xfrm>
          <a:prstGeom prst="ellipse">
            <a:avLst/>
          </a:prstGeom>
          <a:solidFill>
            <a:srgbClr val="f6fa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  <a:ea typeface="Arial"/>
              </a:rPr>
              <a:t>Inac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Elipse 32"/>
          <p:cNvSpPr/>
          <p:nvPr/>
        </p:nvSpPr>
        <p:spPr>
          <a:xfrm>
            <a:off x="7308720" y="5661000"/>
            <a:ext cx="1224000" cy="576360"/>
          </a:xfrm>
          <a:prstGeom prst="ellipse">
            <a:avLst/>
          </a:prstGeom>
          <a:solidFill>
            <a:srgbClr val="f6fa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  <a:ea typeface="Arial"/>
              </a:rPr>
              <a:t>Ac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Línea 33"/>
          <p:cNvSpPr/>
          <p:nvPr/>
        </p:nvSpPr>
        <p:spPr>
          <a:xfrm flipH="1">
            <a:off x="5003280" y="5445000"/>
            <a:ext cx="108108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Elipse 34"/>
          <p:cNvSpPr/>
          <p:nvPr/>
        </p:nvSpPr>
        <p:spPr>
          <a:xfrm>
            <a:off x="4859280" y="5516640"/>
            <a:ext cx="1871640" cy="792000"/>
          </a:xfrm>
          <a:prstGeom prst="ellipse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  <a:ea typeface="Arial"/>
              </a:rPr>
              <a:t>AG de caden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  <a:ea typeface="Arial"/>
              </a:rPr>
              <a:t>Larga (-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3EF7-AF1A-4A23-A6A8-2C6A12A1EDD4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72600" y="17892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ff00"/>
                </a:solidFill>
                <a:latin typeface="Arial Narrow"/>
              </a:rPr>
              <a:t>2) Reacciones de la acido graso sintasa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1476360" y="1412640"/>
            <a:ext cx="7439040" cy="497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taliza la síntesis de AG de hasta 16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Formada por 2 subunidades idénticas con orientación opuesta, cada una con 3 domini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Dominio 1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ingreso de sustratos y unidad de condensación. Contiene 3 enzim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ff00"/>
                </a:solidFill>
                <a:latin typeface="Arial"/>
              </a:rPr>
              <a:t>Acetil transferasa (A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Malonil transferasa (M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ffff"/>
                </a:solidFill>
                <a:latin typeface="Arial"/>
              </a:rPr>
              <a:t>Enzima condensante (KS) o Cetoacil sintasa con resto de Cisteí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Dominio 2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unidad de reducción. Contiene 3 enzim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33"/>
                </a:solidFill>
                <a:latin typeface="Arial"/>
              </a:rPr>
              <a:t>Cetoacil reductasa (K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idroxiacil deshidratasa (H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Enoil reductasa (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see la proteína transportadora de acilos AC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Dominio 3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liberación de AG. Posee la enzim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33"/>
                </a:solidFill>
                <a:latin typeface="Arial"/>
              </a:rPr>
              <a:t>Tioesterasa o Deacilas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7" name="Picture 16" descr=""/>
          <p:cNvPicPr/>
          <p:nvPr/>
        </p:nvPicPr>
        <p:blipFill>
          <a:blip r:embed="rId1"/>
          <a:srcRect l="27852" t="0" r="4160" b="59988"/>
          <a:stretch/>
        </p:blipFill>
        <p:spPr>
          <a:xfrm>
            <a:off x="154080" y="3130560"/>
            <a:ext cx="2300040" cy="2162160"/>
          </a:xfrm>
          <a:prstGeom prst="rect">
            <a:avLst/>
          </a:prstGeom>
          <a:ln w="0">
            <a:noFill/>
          </a:ln>
        </p:spPr>
      </p:pic>
      <p:sp>
        <p:nvSpPr>
          <p:cNvPr id="918" name="6 CuadroTexto"/>
          <p:cNvSpPr/>
          <p:nvPr/>
        </p:nvSpPr>
        <p:spPr>
          <a:xfrm>
            <a:off x="191160" y="5327640"/>
            <a:ext cx="200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Una subunidad de Acido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Graso Sintetas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Forma libre 137"/>
          <p:cNvSpPr/>
          <p:nvPr/>
        </p:nvSpPr>
        <p:spPr>
          <a:xfrm>
            <a:off x="4525920" y="4741920"/>
            <a:ext cx="4187880" cy="1631880"/>
          </a:xfrm>
          <a:custGeom>
            <a:avLst/>
            <a:gdLst/>
            <a:ahLst/>
            <a:rect l="l" t="t" r="r" b="b"/>
            <a:pathLst>
              <a:path w="2638" h="1028">
                <a:moveTo>
                  <a:pt x="269" y="469"/>
                </a:moveTo>
                <a:cubicBezTo>
                  <a:pt x="197" y="525"/>
                  <a:pt x="0" y="667"/>
                  <a:pt x="29" y="757"/>
                </a:cubicBezTo>
                <a:cubicBezTo>
                  <a:pt x="58" y="847"/>
                  <a:pt x="278" y="996"/>
                  <a:pt x="446" y="1012"/>
                </a:cubicBezTo>
                <a:cubicBezTo>
                  <a:pt x="614" y="1028"/>
                  <a:pt x="934" y="909"/>
                  <a:pt x="1037" y="853"/>
                </a:cubicBezTo>
                <a:cubicBezTo>
                  <a:pt x="1140" y="797"/>
                  <a:pt x="1000" y="686"/>
                  <a:pt x="1064" y="678"/>
                </a:cubicBezTo>
                <a:cubicBezTo>
                  <a:pt x="1128" y="670"/>
                  <a:pt x="1269" y="804"/>
                  <a:pt x="1421" y="805"/>
                </a:cubicBezTo>
                <a:cubicBezTo>
                  <a:pt x="1573" y="806"/>
                  <a:pt x="1894" y="750"/>
                  <a:pt x="1974" y="686"/>
                </a:cubicBezTo>
                <a:cubicBezTo>
                  <a:pt x="2054" y="622"/>
                  <a:pt x="1809" y="457"/>
                  <a:pt x="1901" y="421"/>
                </a:cubicBezTo>
                <a:cubicBezTo>
                  <a:pt x="1993" y="385"/>
                  <a:pt x="2421" y="528"/>
                  <a:pt x="2525" y="469"/>
                </a:cubicBezTo>
                <a:cubicBezTo>
                  <a:pt x="2629" y="410"/>
                  <a:pt x="2638" y="136"/>
                  <a:pt x="2525" y="68"/>
                </a:cubicBezTo>
                <a:cubicBezTo>
                  <a:pt x="2412" y="0"/>
                  <a:pt x="1969" y="9"/>
                  <a:pt x="1849" y="60"/>
                </a:cubicBezTo>
                <a:cubicBezTo>
                  <a:pt x="1729" y="111"/>
                  <a:pt x="1852" y="329"/>
                  <a:pt x="1805" y="373"/>
                </a:cubicBezTo>
                <a:cubicBezTo>
                  <a:pt x="1758" y="417"/>
                  <a:pt x="1669" y="333"/>
                  <a:pt x="1565" y="325"/>
                </a:cubicBezTo>
                <a:cubicBezTo>
                  <a:pt x="1461" y="317"/>
                  <a:pt x="1276" y="287"/>
                  <a:pt x="1181" y="325"/>
                </a:cubicBezTo>
                <a:cubicBezTo>
                  <a:pt x="1086" y="363"/>
                  <a:pt x="1061" y="531"/>
                  <a:pt x="997" y="552"/>
                </a:cubicBezTo>
                <a:cubicBezTo>
                  <a:pt x="933" y="573"/>
                  <a:pt x="886" y="474"/>
                  <a:pt x="797" y="452"/>
                </a:cubicBezTo>
                <a:cubicBezTo>
                  <a:pt x="708" y="430"/>
                  <a:pt x="549" y="418"/>
                  <a:pt x="461" y="421"/>
                </a:cubicBezTo>
                <a:cubicBezTo>
                  <a:pt x="373" y="424"/>
                  <a:pt x="341" y="413"/>
                  <a:pt x="269" y="469"/>
                </a:cubicBezTo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Forma libre 136"/>
          <p:cNvSpPr/>
          <p:nvPr/>
        </p:nvSpPr>
        <p:spPr>
          <a:xfrm>
            <a:off x="-11160" y="4925880"/>
            <a:ext cx="4233960" cy="1703520"/>
          </a:xfrm>
          <a:custGeom>
            <a:avLst/>
            <a:gdLst/>
            <a:ahLst/>
            <a:rect l="l" t="t" r="r" b="b"/>
            <a:pathLst>
              <a:path w="2667" h="1073">
                <a:moveTo>
                  <a:pt x="274" y="161"/>
                </a:moveTo>
                <a:cubicBezTo>
                  <a:pt x="199" y="221"/>
                  <a:pt x="48" y="318"/>
                  <a:pt x="24" y="445"/>
                </a:cubicBezTo>
                <a:cubicBezTo>
                  <a:pt x="0" y="572"/>
                  <a:pt x="54" y="936"/>
                  <a:pt x="132" y="921"/>
                </a:cubicBezTo>
                <a:cubicBezTo>
                  <a:pt x="210" y="906"/>
                  <a:pt x="410" y="354"/>
                  <a:pt x="491" y="353"/>
                </a:cubicBezTo>
                <a:cubicBezTo>
                  <a:pt x="572" y="352"/>
                  <a:pt x="489" y="797"/>
                  <a:pt x="619" y="914"/>
                </a:cubicBezTo>
                <a:cubicBezTo>
                  <a:pt x="749" y="1031"/>
                  <a:pt x="1148" y="1070"/>
                  <a:pt x="1268" y="1054"/>
                </a:cubicBezTo>
                <a:cubicBezTo>
                  <a:pt x="1388" y="1038"/>
                  <a:pt x="1299" y="819"/>
                  <a:pt x="1339" y="818"/>
                </a:cubicBezTo>
                <a:cubicBezTo>
                  <a:pt x="1379" y="817"/>
                  <a:pt x="1372" y="1023"/>
                  <a:pt x="1506" y="1048"/>
                </a:cubicBezTo>
                <a:cubicBezTo>
                  <a:pt x="1640" y="1073"/>
                  <a:pt x="2068" y="1025"/>
                  <a:pt x="2144" y="971"/>
                </a:cubicBezTo>
                <a:cubicBezTo>
                  <a:pt x="2220" y="917"/>
                  <a:pt x="1894" y="750"/>
                  <a:pt x="1963" y="722"/>
                </a:cubicBezTo>
                <a:cubicBezTo>
                  <a:pt x="2032" y="694"/>
                  <a:pt x="2455" y="828"/>
                  <a:pt x="2561" y="804"/>
                </a:cubicBezTo>
                <a:cubicBezTo>
                  <a:pt x="2667" y="780"/>
                  <a:pt x="2644" y="650"/>
                  <a:pt x="2600" y="580"/>
                </a:cubicBezTo>
                <a:cubicBezTo>
                  <a:pt x="2556" y="510"/>
                  <a:pt x="2404" y="408"/>
                  <a:pt x="2299" y="386"/>
                </a:cubicBezTo>
                <a:cubicBezTo>
                  <a:pt x="2194" y="364"/>
                  <a:pt x="2055" y="413"/>
                  <a:pt x="1969" y="445"/>
                </a:cubicBezTo>
                <a:cubicBezTo>
                  <a:pt x="1883" y="477"/>
                  <a:pt x="1887" y="531"/>
                  <a:pt x="1785" y="578"/>
                </a:cubicBezTo>
                <a:cubicBezTo>
                  <a:pt x="1683" y="625"/>
                  <a:pt x="1451" y="731"/>
                  <a:pt x="1359" y="729"/>
                </a:cubicBezTo>
                <a:cubicBezTo>
                  <a:pt x="1267" y="727"/>
                  <a:pt x="1307" y="595"/>
                  <a:pt x="1230" y="563"/>
                </a:cubicBezTo>
                <a:cubicBezTo>
                  <a:pt x="1153" y="531"/>
                  <a:pt x="967" y="552"/>
                  <a:pt x="897" y="538"/>
                </a:cubicBezTo>
                <a:cubicBezTo>
                  <a:pt x="827" y="524"/>
                  <a:pt x="801" y="515"/>
                  <a:pt x="811" y="482"/>
                </a:cubicBezTo>
                <a:cubicBezTo>
                  <a:pt x="821" y="449"/>
                  <a:pt x="939" y="402"/>
                  <a:pt x="955" y="338"/>
                </a:cubicBezTo>
                <a:cubicBezTo>
                  <a:pt x="971" y="274"/>
                  <a:pt x="963" y="154"/>
                  <a:pt x="907" y="98"/>
                </a:cubicBezTo>
                <a:cubicBezTo>
                  <a:pt x="851" y="42"/>
                  <a:pt x="691" y="4"/>
                  <a:pt x="619" y="2"/>
                </a:cubicBezTo>
                <a:cubicBezTo>
                  <a:pt x="547" y="0"/>
                  <a:pt x="531" y="60"/>
                  <a:pt x="474" y="86"/>
                </a:cubicBezTo>
                <a:cubicBezTo>
                  <a:pt x="417" y="112"/>
                  <a:pt x="316" y="146"/>
                  <a:pt x="274" y="161"/>
                </a:cubicBezTo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Cuadro de texto 115"/>
          <p:cNvSpPr/>
          <p:nvPr/>
        </p:nvSpPr>
        <p:spPr>
          <a:xfrm>
            <a:off x="762120" y="312408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Cisteí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Elipse 44"/>
          <p:cNvSpPr/>
          <p:nvPr/>
        </p:nvSpPr>
        <p:spPr>
          <a:xfrm>
            <a:off x="3352680" y="2514600"/>
            <a:ext cx="2210040" cy="600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ubunidad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Cuadro de texto 75"/>
          <p:cNvSpPr/>
          <p:nvPr/>
        </p:nvSpPr>
        <p:spPr>
          <a:xfrm>
            <a:off x="7315200" y="28195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4´Fosfo  panteteí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Forma libre 117"/>
          <p:cNvSpPr/>
          <p:nvPr/>
        </p:nvSpPr>
        <p:spPr>
          <a:xfrm>
            <a:off x="4325760" y="1244520"/>
            <a:ext cx="4818240" cy="1766880"/>
          </a:xfrm>
          <a:custGeom>
            <a:avLst/>
            <a:gdLst/>
            <a:ahLst/>
            <a:rect l="l" t="t" r="r" b="b"/>
            <a:pathLst>
              <a:path w="3035" h="1113">
                <a:moveTo>
                  <a:pt x="97" y="51"/>
                </a:moveTo>
                <a:cubicBezTo>
                  <a:pt x="0" y="102"/>
                  <a:pt x="0" y="304"/>
                  <a:pt x="72" y="368"/>
                </a:cubicBezTo>
                <a:cubicBezTo>
                  <a:pt x="144" y="432"/>
                  <a:pt x="429" y="379"/>
                  <a:pt x="531" y="435"/>
                </a:cubicBezTo>
                <a:cubicBezTo>
                  <a:pt x="633" y="491"/>
                  <a:pt x="575" y="653"/>
                  <a:pt x="681" y="702"/>
                </a:cubicBezTo>
                <a:cubicBezTo>
                  <a:pt x="787" y="751"/>
                  <a:pt x="1089" y="668"/>
                  <a:pt x="1165" y="727"/>
                </a:cubicBezTo>
                <a:cubicBezTo>
                  <a:pt x="1241" y="786"/>
                  <a:pt x="1020" y="993"/>
                  <a:pt x="1140" y="1053"/>
                </a:cubicBezTo>
                <a:cubicBezTo>
                  <a:pt x="1260" y="1113"/>
                  <a:pt x="1744" y="1105"/>
                  <a:pt x="1883" y="1088"/>
                </a:cubicBezTo>
                <a:cubicBezTo>
                  <a:pt x="2022" y="1071"/>
                  <a:pt x="1887" y="968"/>
                  <a:pt x="1975" y="952"/>
                </a:cubicBezTo>
                <a:cubicBezTo>
                  <a:pt x="2063" y="936"/>
                  <a:pt x="2332" y="1002"/>
                  <a:pt x="2411" y="992"/>
                </a:cubicBezTo>
                <a:cubicBezTo>
                  <a:pt x="2490" y="982"/>
                  <a:pt x="2446" y="923"/>
                  <a:pt x="2451" y="894"/>
                </a:cubicBezTo>
                <a:cubicBezTo>
                  <a:pt x="2456" y="865"/>
                  <a:pt x="2385" y="835"/>
                  <a:pt x="2442" y="819"/>
                </a:cubicBezTo>
                <a:cubicBezTo>
                  <a:pt x="2499" y="803"/>
                  <a:pt x="2699" y="821"/>
                  <a:pt x="2795" y="800"/>
                </a:cubicBezTo>
                <a:cubicBezTo>
                  <a:pt x="2891" y="779"/>
                  <a:pt x="3035" y="751"/>
                  <a:pt x="3018" y="694"/>
                </a:cubicBezTo>
                <a:cubicBezTo>
                  <a:pt x="3001" y="637"/>
                  <a:pt x="2769" y="505"/>
                  <a:pt x="2693" y="460"/>
                </a:cubicBezTo>
                <a:cubicBezTo>
                  <a:pt x="2617" y="415"/>
                  <a:pt x="2616" y="429"/>
                  <a:pt x="2559" y="426"/>
                </a:cubicBezTo>
                <a:cubicBezTo>
                  <a:pt x="2502" y="423"/>
                  <a:pt x="2407" y="417"/>
                  <a:pt x="2350" y="443"/>
                </a:cubicBezTo>
                <a:cubicBezTo>
                  <a:pt x="2293" y="469"/>
                  <a:pt x="2242" y="541"/>
                  <a:pt x="2217" y="585"/>
                </a:cubicBezTo>
                <a:cubicBezTo>
                  <a:pt x="2192" y="629"/>
                  <a:pt x="2242" y="670"/>
                  <a:pt x="2200" y="710"/>
                </a:cubicBezTo>
                <a:cubicBezTo>
                  <a:pt x="2158" y="750"/>
                  <a:pt x="2034" y="820"/>
                  <a:pt x="1966" y="827"/>
                </a:cubicBezTo>
                <a:cubicBezTo>
                  <a:pt x="1898" y="834"/>
                  <a:pt x="1859" y="773"/>
                  <a:pt x="1791" y="752"/>
                </a:cubicBezTo>
                <a:cubicBezTo>
                  <a:pt x="1723" y="731"/>
                  <a:pt x="1614" y="726"/>
                  <a:pt x="1557" y="702"/>
                </a:cubicBezTo>
                <a:cubicBezTo>
                  <a:pt x="1500" y="678"/>
                  <a:pt x="1487" y="661"/>
                  <a:pt x="1451" y="608"/>
                </a:cubicBezTo>
                <a:cubicBezTo>
                  <a:pt x="1415" y="555"/>
                  <a:pt x="1403" y="436"/>
                  <a:pt x="1340" y="385"/>
                </a:cubicBezTo>
                <a:cubicBezTo>
                  <a:pt x="1277" y="334"/>
                  <a:pt x="1158" y="320"/>
                  <a:pt x="1073" y="301"/>
                </a:cubicBezTo>
                <a:cubicBezTo>
                  <a:pt x="988" y="282"/>
                  <a:pt x="897" y="312"/>
                  <a:pt x="827" y="272"/>
                </a:cubicBezTo>
                <a:cubicBezTo>
                  <a:pt x="757" y="232"/>
                  <a:pt x="778" y="96"/>
                  <a:pt x="656" y="59"/>
                </a:cubicBezTo>
                <a:cubicBezTo>
                  <a:pt x="534" y="22"/>
                  <a:pt x="194" y="0"/>
                  <a:pt x="97" y="51"/>
                </a:cubicBezTo>
                <a:close/>
              </a:path>
            </a:pathLst>
          </a:custGeom>
          <a:solidFill>
            <a:srgbClr val="ccff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Forma libre 58"/>
          <p:cNvSpPr/>
          <p:nvPr/>
        </p:nvSpPr>
        <p:spPr>
          <a:xfrm>
            <a:off x="585720" y="1424160"/>
            <a:ext cx="3611520" cy="1671480"/>
          </a:xfrm>
          <a:custGeom>
            <a:avLst/>
            <a:gdLst/>
            <a:ahLst/>
            <a:rect l="l" t="t" r="r" b="b"/>
            <a:pathLst>
              <a:path w="2275" h="1053">
                <a:moveTo>
                  <a:pt x="104" y="989"/>
                </a:moveTo>
                <a:cubicBezTo>
                  <a:pt x="208" y="1053"/>
                  <a:pt x="575" y="999"/>
                  <a:pt x="680" y="941"/>
                </a:cubicBezTo>
                <a:cubicBezTo>
                  <a:pt x="785" y="883"/>
                  <a:pt x="731" y="707"/>
                  <a:pt x="735" y="639"/>
                </a:cubicBezTo>
                <a:cubicBezTo>
                  <a:pt x="739" y="571"/>
                  <a:pt x="666" y="549"/>
                  <a:pt x="704" y="531"/>
                </a:cubicBezTo>
                <a:cubicBezTo>
                  <a:pt x="742" y="513"/>
                  <a:pt x="852" y="545"/>
                  <a:pt x="964" y="531"/>
                </a:cubicBezTo>
                <a:cubicBezTo>
                  <a:pt x="1076" y="517"/>
                  <a:pt x="1292" y="448"/>
                  <a:pt x="1375" y="444"/>
                </a:cubicBezTo>
                <a:cubicBezTo>
                  <a:pt x="1458" y="440"/>
                  <a:pt x="1448" y="497"/>
                  <a:pt x="1462" y="507"/>
                </a:cubicBezTo>
                <a:cubicBezTo>
                  <a:pt x="1476" y="517"/>
                  <a:pt x="1442" y="506"/>
                  <a:pt x="1462" y="507"/>
                </a:cubicBezTo>
                <a:cubicBezTo>
                  <a:pt x="1482" y="508"/>
                  <a:pt x="1461" y="509"/>
                  <a:pt x="1580" y="515"/>
                </a:cubicBezTo>
                <a:cubicBezTo>
                  <a:pt x="1699" y="521"/>
                  <a:pt x="2075" y="607"/>
                  <a:pt x="2175" y="543"/>
                </a:cubicBezTo>
                <a:cubicBezTo>
                  <a:pt x="2275" y="479"/>
                  <a:pt x="2238" y="206"/>
                  <a:pt x="2180" y="129"/>
                </a:cubicBezTo>
                <a:cubicBezTo>
                  <a:pt x="2122" y="52"/>
                  <a:pt x="1938" y="71"/>
                  <a:pt x="1825" y="81"/>
                </a:cubicBezTo>
                <a:cubicBezTo>
                  <a:pt x="1712" y="91"/>
                  <a:pt x="1584" y="189"/>
                  <a:pt x="1501" y="192"/>
                </a:cubicBezTo>
                <a:cubicBezTo>
                  <a:pt x="1418" y="195"/>
                  <a:pt x="1481" y="119"/>
                  <a:pt x="1327" y="97"/>
                </a:cubicBezTo>
                <a:cubicBezTo>
                  <a:pt x="1173" y="75"/>
                  <a:pt x="725" y="0"/>
                  <a:pt x="578" y="58"/>
                </a:cubicBezTo>
                <a:cubicBezTo>
                  <a:pt x="431" y="116"/>
                  <a:pt x="534" y="364"/>
                  <a:pt x="447" y="447"/>
                </a:cubicBezTo>
                <a:cubicBezTo>
                  <a:pt x="360" y="530"/>
                  <a:pt x="114" y="465"/>
                  <a:pt x="57" y="555"/>
                </a:cubicBezTo>
                <a:cubicBezTo>
                  <a:pt x="0" y="645"/>
                  <a:pt x="0" y="925"/>
                  <a:pt x="104" y="989"/>
                </a:cubicBezTo>
                <a:close/>
              </a:path>
            </a:pathLst>
          </a:custGeom>
          <a:solidFill>
            <a:srgbClr val="ccff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Elipse 55"/>
          <p:cNvSpPr/>
          <p:nvPr/>
        </p:nvSpPr>
        <p:spPr>
          <a:xfrm>
            <a:off x="3344760" y="4808520"/>
            <a:ext cx="2451240" cy="601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ubunidad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Cuadro de texto 54"/>
          <p:cNvSpPr/>
          <p:nvPr/>
        </p:nvSpPr>
        <p:spPr>
          <a:xfrm>
            <a:off x="609480" y="3886200"/>
            <a:ext cx="7925040" cy="150840"/>
          </a:xfrm>
          <a:prstGeom prst="rect">
            <a:avLst/>
          </a:prstGeom>
          <a:solidFill>
            <a:srgbClr val="c0c0c0">
              <a:alpha val="5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Línea 56"/>
          <p:cNvSpPr/>
          <p:nvPr/>
        </p:nvSpPr>
        <p:spPr>
          <a:xfrm>
            <a:off x="4226040" y="1492200"/>
            <a:ext cx="0" cy="4702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343080" y="260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 Narrow"/>
              </a:rPr>
              <a:t>Esquema Complejo ácido graso sintasa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30" name="Cuadro de texto 62"/>
          <p:cNvSpPr/>
          <p:nvPr/>
        </p:nvSpPr>
        <p:spPr>
          <a:xfrm>
            <a:off x="7620120" y="26668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Cuadro de texto 63"/>
          <p:cNvSpPr/>
          <p:nvPr/>
        </p:nvSpPr>
        <p:spPr>
          <a:xfrm>
            <a:off x="1066680" y="2895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Cuadro de texto 64"/>
          <p:cNvSpPr/>
          <p:nvPr/>
        </p:nvSpPr>
        <p:spPr>
          <a:xfrm>
            <a:off x="8305920" y="2133720"/>
            <a:ext cx="1143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Cuadro de texto 67"/>
          <p:cNvSpPr/>
          <p:nvPr/>
        </p:nvSpPr>
        <p:spPr>
          <a:xfrm>
            <a:off x="5334120" y="175248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Enoi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reduc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Rectángulo 68"/>
          <p:cNvSpPr/>
          <p:nvPr/>
        </p:nvSpPr>
        <p:spPr>
          <a:xfrm>
            <a:off x="4343400" y="14479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Hidra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Rectángulo 69"/>
          <p:cNvSpPr/>
          <p:nvPr/>
        </p:nvSpPr>
        <p:spPr>
          <a:xfrm>
            <a:off x="1274760" y="160020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cetil Transacilas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Cuadro de texto 70"/>
          <p:cNvSpPr/>
          <p:nvPr/>
        </p:nvSpPr>
        <p:spPr>
          <a:xfrm>
            <a:off x="685800" y="236232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Cetoacil sin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Rectángulo 71"/>
          <p:cNvSpPr/>
          <p:nvPr/>
        </p:nvSpPr>
        <p:spPr>
          <a:xfrm>
            <a:off x="2743200" y="167652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Maloni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Transacilas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Cuadro de texto 72"/>
          <p:cNvSpPr/>
          <p:nvPr/>
        </p:nvSpPr>
        <p:spPr>
          <a:xfrm>
            <a:off x="7505640" y="2416320"/>
            <a:ext cx="68580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C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Cuadro de texto 74"/>
          <p:cNvSpPr/>
          <p:nvPr/>
        </p:nvSpPr>
        <p:spPr>
          <a:xfrm>
            <a:off x="7848720" y="21337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Tioester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Cuadro de texto 109"/>
          <p:cNvSpPr/>
          <p:nvPr/>
        </p:nvSpPr>
        <p:spPr>
          <a:xfrm>
            <a:off x="6172200" y="23623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Cetoacil reduc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Cuadro de texto 111"/>
          <p:cNvSpPr/>
          <p:nvPr/>
        </p:nvSpPr>
        <p:spPr>
          <a:xfrm>
            <a:off x="990720" y="35053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S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Cuadro de texto 113"/>
          <p:cNvSpPr/>
          <p:nvPr/>
        </p:nvSpPr>
        <p:spPr>
          <a:xfrm>
            <a:off x="609480" y="426708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4´Fosfo  panteteí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Cuadro de texto 114"/>
          <p:cNvSpPr/>
          <p:nvPr/>
        </p:nvSpPr>
        <p:spPr>
          <a:xfrm>
            <a:off x="7467480" y="35053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S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Cuadro de texto 116"/>
          <p:cNvSpPr/>
          <p:nvPr/>
        </p:nvSpPr>
        <p:spPr>
          <a:xfrm>
            <a:off x="1066680" y="32767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Cuadro de texto 118"/>
          <p:cNvSpPr/>
          <p:nvPr/>
        </p:nvSpPr>
        <p:spPr>
          <a:xfrm>
            <a:off x="7620120" y="32767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Cuadro de texto 119"/>
          <p:cNvSpPr/>
          <p:nvPr/>
        </p:nvSpPr>
        <p:spPr>
          <a:xfrm>
            <a:off x="990720" y="41148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Cuadro de texto 120"/>
          <p:cNvSpPr/>
          <p:nvPr/>
        </p:nvSpPr>
        <p:spPr>
          <a:xfrm>
            <a:off x="914400" y="39625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S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Cuadro de texto 121"/>
          <p:cNvSpPr/>
          <p:nvPr/>
        </p:nvSpPr>
        <p:spPr>
          <a:xfrm>
            <a:off x="2286000" y="59436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Enoi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reduc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Cuadro de texto 122"/>
          <p:cNvSpPr/>
          <p:nvPr/>
        </p:nvSpPr>
        <p:spPr>
          <a:xfrm>
            <a:off x="1066680" y="59436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Cetoacil reduc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Cuadro de texto 125"/>
          <p:cNvSpPr/>
          <p:nvPr/>
        </p:nvSpPr>
        <p:spPr>
          <a:xfrm>
            <a:off x="7543800" y="487692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Cetoacil sin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Rectángulo 126"/>
          <p:cNvSpPr/>
          <p:nvPr/>
        </p:nvSpPr>
        <p:spPr>
          <a:xfrm>
            <a:off x="6172200" y="525780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cetil Transacilas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Rectángulo 127"/>
          <p:cNvSpPr/>
          <p:nvPr/>
        </p:nvSpPr>
        <p:spPr>
          <a:xfrm>
            <a:off x="4648320" y="556272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Maloni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Transacilas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Cuadro de texto 128"/>
          <p:cNvSpPr/>
          <p:nvPr/>
        </p:nvSpPr>
        <p:spPr>
          <a:xfrm>
            <a:off x="914400" y="50292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C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Cuadro de texto 129"/>
          <p:cNvSpPr/>
          <p:nvPr/>
        </p:nvSpPr>
        <p:spPr>
          <a:xfrm rot="17535000">
            <a:off x="-288720" y="546984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Tioester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Cuadro de texto 130"/>
          <p:cNvSpPr/>
          <p:nvPr/>
        </p:nvSpPr>
        <p:spPr>
          <a:xfrm>
            <a:off x="7696080" y="41911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Rectángulo 131"/>
          <p:cNvSpPr/>
          <p:nvPr/>
        </p:nvSpPr>
        <p:spPr>
          <a:xfrm>
            <a:off x="3124080" y="5791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Hidra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Cuadro de texto 132"/>
          <p:cNvSpPr/>
          <p:nvPr/>
        </p:nvSpPr>
        <p:spPr>
          <a:xfrm>
            <a:off x="990720" y="4724280"/>
            <a:ext cx="3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Cuadro de texto 133"/>
          <p:cNvSpPr/>
          <p:nvPr/>
        </p:nvSpPr>
        <p:spPr>
          <a:xfrm>
            <a:off x="7620120" y="441972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Cisteí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Cuadro de texto 134"/>
          <p:cNvSpPr/>
          <p:nvPr/>
        </p:nvSpPr>
        <p:spPr>
          <a:xfrm>
            <a:off x="7543800" y="39625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S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Cuadro de texto 135"/>
          <p:cNvSpPr/>
          <p:nvPr/>
        </p:nvSpPr>
        <p:spPr>
          <a:xfrm>
            <a:off x="7772400" y="46483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Forma libre 138"/>
          <p:cNvSpPr/>
          <p:nvPr/>
        </p:nvSpPr>
        <p:spPr>
          <a:xfrm>
            <a:off x="4191120" y="5943600"/>
            <a:ext cx="380880" cy="76320"/>
          </a:xfrm>
          <a:custGeom>
            <a:avLst/>
            <a:gdLst/>
            <a:ahLst/>
            <a:rect l="l" t="t" r="r" b="b"/>
            <a:pathLst>
              <a:path w="240" h="48">
                <a:moveTo>
                  <a:pt x="0" y="0"/>
                </a:moveTo>
                <a:cubicBezTo>
                  <a:pt x="4" y="24"/>
                  <a:pt x="8" y="48"/>
                  <a:pt x="48" y="48"/>
                </a:cubicBezTo>
                <a:cubicBezTo>
                  <a:pt x="88" y="48"/>
                  <a:pt x="208" y="8"/>
                  <a:pt x="240" y="0"/>
                </a:cubicBez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Forma libre 139"/>
          <p:cNvSpPr/>
          <p:nvPr/>
        </p:nvSpPr>
        <p:spPr>
          <a:xfrm>
            <a:off x="4114800" y="1587600"/>
            <a:ext cx="304920" cy="164880"/>
          </a:xfrm>
          <a:custGeom>
            <a:avLst/>
            <a:gdLst/>
            <a:ahLst/>
            <a:rect l="l" t="t" r="r" b="b"/>
            <a:pathLst>
              <a:path w="192" h="104">
                <a:moveTo>
                  <a:pt x="0" y="104"/>
                </a:moveTo>
                <a:cubicBezTo>
                  <a:pt x="8" y="60"/>
                  <a:pt x="16" y="16"/>
                  <a:pt x="48" y="8"/>
                </a:cubicBezTo>
                <a:cubicBezTo>
                  <a:pt x="80" y="0"/>
                  <a:pt x="168" y="48"/>
                  <a:pt x="192" y="56"/>
                </a:cubicBez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8146-5D33-44A3-8927-61E12BC9F440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09680" y="252000"/>
            <a:ext cx="8447040" cy="93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ff00"/>
                </a:solidFill>
                <a:latin typeface="Arial Narrow"/>
              </a:rPr>
              <a:t>1)Transferencia de acetato.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5" name="Text Box 11"/>
          <p:cNvSpPr/>
          <p:nvPr/>
        </p:nvSpPr>
        <p:spPr>
          <a:xfrm>
            <a:off x="395280" y="1665360"/>
            <a:ext cx="29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Text Box 14"/>
          <p:cNvSpPr/>
          <p:nvPr/>
        </p:nvSpPr>
        <p:spPr>
          <a:xfrm>
            <a:off x="324000" y="2384280"/>
            <a:ext cx="403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Una molécula de acetil-CoA ingresa y la </a:t>
            </a:r>
            <a:r>
              <a:rPr b="0" lang="es-ES" sz="2800" spc="-1" strike="noStrike">
                <a:solidFill>
                  <a:srgbClr val="ff3300"/>
                </a:solidFill>
                <a:latin typeface="Arial Narrow"/>
                <a:ea typeface="Arial"/>
              </a:rPr>
              <a:t>acetil transferasa (AT)</a:t>
            </a:r>
            <a:r>
              <a:rPr b="0" lang="es-E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 transfiere el resto acetilo al sitio activo de la </a:t>
            </a:r>
            <a:r>
              <a:rPr b="0" lang="es-ES" sz="2800" spc="-1" strike="noStrike">
                <a:solidFill>
                  <a:srgbClr val="ffff00"/>
                </a:solidFill>
                <a:latin typeface="Arial Narrow"/>
                <a:ea typeface="Arial"/>
              </a:rPr>
              <a:t>enzima condensante</a:t>
            </a:r>
            <a:r>
              <a:rPr b="0" lang="es-E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s-ES" sz="2800" spc="-1" strike="noStrike">
                <a:solidFill>
                  <a:srgbClr val="ffff00"/>
                </a:solidFill>
                <a:latin typeface="Arial Narrow"/>
                <a:ea typeface="Arial"/>
              </a:rPr>
              <a:t>(K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7" name="Picture 16" descr=""/>
          <p:cNvPicPr/>
          <p:nvPr/>
        </p:nvPicPr>
        <p:blipFill>
          <a:blip r:embed="rId1"/>
          <a:stretch/>
        </p:blipFill>
        <p:spPr>
          <a:xfrm>
            <a:off x="4680000" y="981000"/>
            <a:ext cx="354492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1589-0461-44D8-979C-B5F1F73EB75E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58560" y="333360"/>
            <a:ext cx="8483400" cy="7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ff00"/>
                </a:solidFill>
                <a:latin typeface="Arial Narrow"/>
              </a:rPr>
              <a:t>2)Transferencia de malonilo.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0" name="Text Box 6"/>
          <p:cNvSpPr/>
          <p:nvPr/>
        </p:nvSpPr>
        <p:spPr>
          <a:xfrm>
            <a:off x="431640" y="1628640"/>
            <a:ext cx="3240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El malonil-CoA formado ingresa y se une al residuo de </a:t>
            </a:r>
            <a:r>
              <a:rPr b="0" lang="es-ES" sz="2800" spc="-1" strike="noStrike">
                <a:solidFill>
                  <a:srgbClr val="00ff00"/>
                </a:solidFill>
                <a:latin typeface="Arial Narrow"/>
                <a:ea typeface="Arial"/>
              </a:rPr>
              <a:t>Fosfopanteteína</a:t>
            </a:r>
            <a:r>
              <a:rPr b="0" lang="es-E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  de la </a:t>
            </a:r>
            <a:r>
              <a:rPr b="0" lang="es-ES" sz="2800" spc="-1" strike="noStrike">
                <a:solidFill>
                  <a:srgbClr val="ffff00"/>
                </a:solidFill>
                <a:latin typeface="Arial Narrow"/>
                <a:ea typeface="Arial"/>
              </a:rPr>
              <a:t>Proteína Transportadora de Acilos (ACP)</a:t>
            </a:r>
            <a:r>
              <a:rPr b="0" lang="es-E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 por acción de la </a:t>
            </a:r>
            <a:r>
              <a:rPr b="0" lang="es-ES" sz="2800" spc="-1" strike="noStrike">
                <a:solidFill>
                  <a:srgbClr val="ff3300"/>
                </a:solidFill>
                <a:latin typeface="Arial Narrow"/>
                <a:ea typeface="Arial"/>
              </a:rPr>
              <a:t>malonil transferasa (MT)</a:t>
            </a:r>
            <a:r>
              <a:rPr b="0" lang="es-E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1" name="Picture 8" descr=""/>
          <p:cNvPicPr/>
          <p:nvPr/>
        </p:nvPicPr>
        <p:blipFill>
          <a:blip r:embed="rId1"/>
          <a:stretch/>
        </p:blipFill>
        <p:spPr>
          <a:xfrm>
            <a:off x="3738600" y="944640"/>
            <a:ext cx="470196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8C84-2BF3-4569-B6E6-F4E3B894DF9C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-360" y="252000"/>
            <a:ext cx="8916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ff00"/>
                </a:solidFill>
                <a:latin typeface="Arial Narrow"/>
              </a:rPr>
              <a:t>3)Condensación de acetilo con malonilo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4" name="Text Box 6"/>
          <p:cNvSpPr/>
          <p:nvPr/>
        </p:nvSpPr>
        <p:spPr>
          <a:xfrm>
            <a:off x="468360" y="2097000"/>
            <a:ext cx="392112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El carboxilo libre del malonilo se separa como 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Se produce la unión de acetilo y malonilo catalizada por la </a:t>
            </a:r>
            <a:r>
              <a:rPr b="0" lang="es-ES" sz="2400" spc="-1" strike="noStrike">
                <a:solidFill>
                  <a:srgbClr val="ff3300"/>
                </a:solidFill>
                <a:latin typeface="Arial Narrow"/>
                <a:ea typeface="Arial"/>
              </a:rPr>
              <a:t>enzima condensante (KS) </a:t>
            </a:r>
            <a:r>
              <a:rPr b="0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para formar ceto-acil AC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Se libera el acetilo de la enzima condens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5" name="Picture 8" descr=""/>
          <p:cNvPicPr/>
          <p:nvPr/>
        </p:nvPicPr>
        <p:blipFill>
          <a:blip r:embed="rId1"/>
          <a:stretch/>
        </p:blipFill>
        <p:spPr>
          <a:xfrm>
            <a:off x="4716360" y="1268280"/>
            <a:ext cx="381168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A72B-4F67-45BF-983C-B54AB71E0C37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ff00"/>
                </a:solidFill>
                <a:latin typeface="Arial Narrow"/>
              </a:rPr>
              <a:t>4) Primera reducción (reducción del grupo ceto)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8" name="Text Box 6"/>
          <p:cNvSpPr/>
          <p:nvPr/>
        </p:nvSpPr>
        <p:spPr>
          <a:xfrm>
            <a:off x="468360" y="2529000"/>
            <a:ext cx="244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El ceto-acil ACP formado se reduce a hidroxi-acil ACP por acción de la </a:t>
            </a:r>
            <a:r>
              <a:rPr b="1" lang="es-ES" sz="2400" spc="-1" strike="noStrike">
                <a:solidFill>
                  <a:srgbClr val="ff3300"/>
                </a:solidFill>
                <a:latin typeface="Arial Narrow"/>
                <a:ea typeface="Arial"/>
              </a:rPr>
              <a:t>ceto-acil reductasa (KR)</a:t>
            </a:r>
            <a:r>
              <a:rPr b="1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9" name="Picture 8" descr=""/>
          <p:cNvPicPr/>
          <p:nvPr/>
        </p:nvPicPr>
        <p:blipFill>
          <a:blip r:embed="rId1"/>
          <a:stretch/>
        </p:blipFill>
        <p:spPr>
          <a:xfrm>
            <a:off x="2879640" y="1736640"/>
            <a:ext cx="626436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6096240" cy="11430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Arial Narrow"/>
              </a:rPr>
              <a:t>Funciones de los lípido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425080" cy="4465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omponentes de membra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Fuente de reserva energé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Reguladores Biológ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Pigmentos (retinol, carote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ofactores (vitamina 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Detergentes (ácidos biliar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Transportadores (dolico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Hormonas (derivados de la vitamina D, hormonas sexua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Mensajeros celulares (eicosanoides, derivados de fosfatidil inosito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Ancladores de proteí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CF07-316F-4D0C-B975-6D774E9BE886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942920" y="361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ff00"/>
                </a:solidFill>
                <a:latin typeface="Arial Narrow"/>
              </a:rPr>
              <a:t>5)Deshidratación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2" name="Text Box 6"/>
          <p:cNvSpPr/>
          <p:nvPr/>
        </p:nvSpPr>
        <p:spPr>
          <a:xfrm>
            <a:off x="503280" y="2023920"/>
            <a:ext cx="23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Text Box 7"/>
          <p:cNvSpPr/>
          <p:nvPr/>
        </p:nvSpPr>
        <p:spPr>
          <a:xfrm>
            <a:off x="216000" y="2492280"/>
            <a:ext cx="28796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Se pierde una molécula de agua, reacción catalizada por 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1" lang="es-ES" sz="2400" spc="-1" strike="noStrike">
                <a:solidFill>
                  <a:srgbClr val="ff3300"/>
                </a:solidFill>
                <a:latin typeface="Arial Narrow"/>
                <a:ea typeface="Arial"/>
              </a:rPr>
              <a:t>hidroxi acil deshidratasa (H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4" name="Picture 9" descr=""/>
          <p:cNvPicPr/>
          <p:nvPr/>
        </p:nvPicPr>
        <p:blipFill>
          <a:blip r:embed="rId1"/>
          <a:stretch/>
        </p:blipFill>
        <p:spPr>
          <a:xfrm>
            <a:off x="2808360" y="1704960"/>
            <a:ext cx="615636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CD07-3EB5-46E2-A3F9-8BC4A6C01E87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54080" y="-360"/>
            <a:ext cx="8989920" cy="10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ff00"/>
                </a:solidFill>
                <a:latin typeface="Arial Narrow"/>
              </a:rPr>
              <a:t>6)Segunda reducción</a:t>
            </a:r>
            <a:br>
              <a:rPr sz="3600"/>
            </a:br>
            <a:r>
              <a:rPr b="1" lang="es-ES" sz="2400" spc="-1" strike="noStrike">
                <a:solidFill>
                  <a:srgbClr val="00ff00"/>
                </a:solidFill>
                <a:latin typeface="Arial Narrow"/>
              </a:rPr>
              <a:t>(Saturación del enlace C-C)</a:t>
            </a:r>
            <a:endParaRPr b="1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7" name="Text Box 6"/>
          <p:cNvSpPr/>
          <p:nvPr/>
        </p:nvSpPr>
        <p:spPr>
          <a:xfrm>
            <a:off x="576360" y="3033720"/>
            <a:ext cx="38876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compuesto insaturado es hidrogenado por acción de l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enoil reductasa (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8" name="Picture 8" descr=""/>
          <p:cNvPicPr/>
          <p:nvPr/>
        </p:nvPicPr>
        <p:blipFill>
          <a:blip r:embed="rId1"/>
          <a:stretch/>
        </p:blipFill>
        <p:spPr>
          <a:xfrm>
            <a:off x="5076720" y="762120"/>
            <a:ext cx="32482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E713-AB4C-4965-BA02-C602762802F0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3095640" y="225000"/>
            <a:ext cx="577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ff00"/>
                </a:solidFill>
                <a:latin typeface="Arial Narrow"/>
              </a:rPr>
              <a:t>Translocación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91" name="Text Box 7"/>
          <p:cNvSpPr/>
          <p:nvPr/>
        </p:nvSpPr>
        <p:spPr>
          <a:xfrm>
            <a:off x="1440" y="189000"/>
            <a:ext cx="3418200" cy="63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 Narrow"/>
                <a:ea typeface="Arial"/>
              </a:rPr>
              <a:t>La cadena en elongación unida al grupo fosfopanteteína de la ACP es translocada al residuo de cisteína de la enzima condensante (K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 Narrow"/>
                <a:ea typeface="Arial"/>
              </a:rPr>
              <a:t>El grupo fosfopanteteína queda libre para la unión a malonilo comenzando un nuevo cicl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 Narrow"/>
                <a:ea typeface="Arial"/>
              </a:rPr>
              <a:t>El ciclo se repite hasta llegar a AG de 16 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ffcc"/>
                </a:solidFill>
                <a:latin typeface="Arial Narrow"/>
                <a:ea typeface="Arial"/>
              </a:rPr>
              <a:t>Los H necesarios para las reducciones provienen de </a:t>
            </a:r>
            <a:r>
              <a:rPr b="1" lang="es-ES" sz="2000" spc="-1" strike="noStrike" u="sng">
                <a:solidFill>
                  <a:srgbClr val="99ffcc"/>
                </a:solidFill>
                <a:uFillTx/>
                <a:latin typeface="Arial Narrow"/>
                <a:ea typeface="Arial"/>
              </a:rPr>
              <a:t>NADPH que se obtiene en la vía de las pentosas y  en menor cantidad por la enzima málica lanzadera de citra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ffcc"/>
                </a:solidFill>
                <a:latin typeface="Arial Narrow"/>
                <a:ea typeface="Arial"/>
              </a:rPr>
              <a:t>(transporte de acetilos</a:t>
            </a:r>
            <a:r>
              <a:rPr b="1" lang="es-ES" sz="2000" spc="-1" strike="noStrike">
                <a:solidFill>
                  <a:srgbClr val="ffffff"/>
                </a:solidFill>
                <a:latin typeface="Arial Narrow"/>
                <a:ea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2" name="Picture 9" descr=""/>
          <p:cNvPicPr/>
          <p:nvPr/>
        </p:nvPicPr>
        <p:blipFill>
          <a:blip r:embed="rId1"/>
          <a:stretch/>
        </p:blipFill>
        <p:spPr>
          <a:xfrm>
            <a:off x="3348000" y="1665360"/>
            <a:ext cx="5575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B5EB-F9E4-49A7-9327-DFF15EC5E66E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90080" y="361440"/>
            <a:ext cx="8185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00ff00"/>
                </a:solidFill>
                <a:uFillTx/>
                <a:latin typeface="Arial Narrow"/>
              </a:rPr>
              <a:t>RESUMEN</a:t>
            </a:r>
            <a:r>
              <a:rPr b="1" lang="es-ES" sz="4000" spc="-1" strike="noStrike">
                <a:solidFill>
                  <a:srgbClr val="00ff00"/>
                </a:solidFill>
                <a:latin typeface="Arial Narrow"/>
              </a:rPr>
              <a:t>: </a:t>
            </a:r>
            <a:br>
              <a:rPr sz="4000"/>
            </a:br>
            <a:r>
              <a:rPr b="1" lang="es-ES" sz="4000" spc="-1" strike="noStrike">
                <a:solidFill>
                  <a:srgbClr val="00ff00"/>
                </a:solidFill>
                <a:latin typeface="Arial Narrow"/>
              </a:rPr>
              <a:t>Pasos de la biosíntesis de Ac. Grasos.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995" name="Picture 6" descr=""/>
          <p:cNvPicPr/>
          <p:nvPr/>
        </p:nvPicPr>
        <p:blipFill>
          <a:blip r:embed="rId1"/>
          <a:stretch/>
        </p:blipFill>
        <p:spPr>
          <a:xfrm>
            <a:off x="539640" y="1765440"/>
            <a:ext cx="8375760" cy="4611600"/>
          </a:xfrm>
          <a:prstGeom prst="rect">
            <a:avLst/>
          </a:prstGeom>
          <a:ln w="0">
            <a:noFill/>
          </a:ln>
        </p:spPr>
      </p:pic>
      <p:sp>
        <p:nvSpPr>
          <p:cNvPr id="996" name="1 CuadroTexto"/>
          <p:cNvSpPr/>
          <p:nvPr/>
        </p:nvSpPr>
        <p:spPr>
          <a:xfrm>
            <a:off x="539640" y="5408640"/>
            <a:ext cx="54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7 ciclos de condensación y reducción producen el palmitato saturado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  <a:ea typeface="Arial"/>
              </a:rPr>
              <a:t>,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Actúa la </a:t>
            </a:r>
            <a:r>
              <a:rPr b="1" lang="es-A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ioesterasa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y libera el 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Elipse 19"/>
          <p:cNvSpPr/>
          <p:nvPr/>
        </p:nvSpPr>
        <p:spPr>
          <a:xfrm>
            <a:off x="3124080" y="2743200"/>
            <a:ext cx="1067040" cy="12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000"/>
                </a:solidFill>
                <a:latin typeface="Arial Narrow"/>
              </a:rPr>
              <a:t>Balance de la Biosíntesis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99" name="Cuadro de texto 15"/>
          <p:cNvSpPr/>
          <p:nvPr/>
        </p:nvSpPr>
        <p:spPr>
          <a:xfrm>
            <a:off x="762120" y="32004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8 Acetil-CoA  +  7 ATP  +  14 NADPH   +  14  H</a:t>
            </a:r>
            <a:r>
              <a:rPr b="1" lang="es-E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Cuadro de texto 16"/>
          <p:cNvSpPr/>
          <p:nvPr/>
        </p:nvSpPr>
        <p:spPr>
          <a:xfrm>
            <a:off x="152280" y="4495680"/>
            <a:ext cx="883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almitato +8 CoA-SH +  7 ADP + 7 Pi +  14 NADP</a:t>
            </a:r>
            <a:r>
              <a:rPr b="1" lang="es-E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  +  6  H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Línea 20"/>
          <p:cNvSpPr/>
          <p:nvPr/>
        </p:nvSpPr>
        <p:spPr>
          <a:xfrm flipV="1">
            <a:off x="4343400" y="2438280"/>
            <a:ext cx="1371600" cy="457200"/>
          </a:xfrm>
          <a:prstGeom prst="line">
            <a:avLst/>
          </a:prstGeom>
          <a:ln w="22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Elipse 21"/>
          <p:cNvSpPr/>
          <p:nvPr/>
        </p:nvSpPr>
        <p:spPr>
          <a:xfrm>
            <a:off x="5638680" y="1219320"/>
            <a:ext cx="3110040" cy="1752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Biosíntesis de malonil-C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Línea 22"/>
          <p:cNvSpPr/>
          <p:nvPr/>
        </p:nvSpPr>
        <p:spPr>
          <a:xfrm>
            <a:off x="4572000" y="378936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1 CuadroTexto"/>
          <p:cNvSpPr/>
          <p:nvPr/>
        </p:nvSpPr>
        <p:spPr>
          <a:xfrm>
            <a:off x="6063840" y="1531800"/>
            <a:ext cx="22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  <a:ea typeface="Arial"/>
              </a:rPr>
              <a:t>Lanzadera de citr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Cuadro de texto 4"/>
          <p:cNvSpPr/>
          <p:nvPr/>
        </p:nvSpPr>
        <p:spPr>
          <a:xfrm>
            <a:off x="2556000" y="2060640"/>
            <a:ext cx="37447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losté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oval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Transcripción génic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Rectángulo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000"/>
                </a:solidFill>
                <a:latin typeface="Arial"/>
                <a:ea typeface="Arial"/>
              </a:rPr>
              <a:t>REGULACION DE LA BIOSINTESIS DE ACIDOS GRAS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Cuadro de texto 6"/>
          <p:cNvSpPr/>
          <p:nvPr/>
        </p:nvSpPr>
        <p:spPr>
          <a:xfrm>
            <a:off x="324000" y="3357720"/>
            <a:ext cx="2232000" cy="1169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ff"/>
                </a:solidFill>
                <a:latin typeface="Arial"/>
                <a:ea typeface="Arial"/>
              </a:rPr>
              <a:t>Acetil-Co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ff"/>
                </a:solidFill>
                <a:latin typeface="Arial"/>
                <a:ea typeface="Arial"/>
              </a:rPr>
              <a:t>carboxila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Autoforma 7"/>
          <p:cNvSpPr/>
          <p:nvPr/>
        </p:nvSpPr>
        <p:spPr>
          <a:xfrm>
            <a:off x="4429080" y="1700280"/>
            <a:ext cx="358920" cy="1657440"/>
          </a:xfrm>
          <a:custGeom>
            <a:avLst/>
            <a:gdLst>
              <a:gd name="textAreaLeft" fmla="*/ 229320 w 358920"/>
              <a:gd name="textAreaRight" fmla="*/ 359280 w 358920"/>
              <a:gd name="textAreaTop" fmla="*/ 43200 h 1657440"/>
              <a:gd name="textAreaBottom" fmla="*/ 1614240 h 16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Autoforma 8"/>
          <p:cNvSpPr/>
          <p:nvPr/>
        </p:nvSpPr>
        <p:spPr>
          <a:xfrm>
            <a:off x="4284720" y="1484280"/>
            <a:ext cx="431640" cy="1727280"/>
          </a:xfrm>
          <a:custGeom>
            <a:avLst/>
            <a:gdLst>
              <a:gd name="textAreaLeft" fmla="*/ 275760 w 431640"/>
              <a:gd name="textAreaRight" fmla="*/ 432000 w 43164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Elipse 9"/>
          <p:cNvSpPr/>
          <p:nvPr/>
        </p:nvSpPr>
        <p:spPr>
          <a:xfrm>
            <a:off x="4788000" y="1700280"/>
            <a:ext cx="50472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Elipse 10"/>
          <p:cNvSpPr/>
          <p:nvPr/>
        </p:nvSpPr>
        <p:spPr>
          <a:xfrm>
            <a:off x="4859280" y="2637000"/>
            <a:ext cx="504720" cy="43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Autoforma 11"/>
          <p:cNvSpPr/>
          <p:nvPr/>
        </p:nvSpPr>
        <p:spPr>
          <a:xfrm>
            <a:off x="4356000" y="3573360"/>
            <a:ext cx="432000" cy="1727280"/>
          </a:xfrm>
          <a:custGeom>
            <a:avLst/>
            <a:gdLst>
              <a:gd name="textAreaLeft" fmla="*/ 276120 w 432000"/>
              <a:gd name="textAreaRight" fmla="*/ 432360 w 43200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Elipse 12"/>
          <p:cNvSpPr/>
          <p:nvPr/>
        </p:nvSpPr>
        <p:spPr>
          <a:xfrm>
            <a:off x="4859280" y="3789360"/>
            <a:ext cx="50472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Elipse 13"/>
          <p:cNvSpPr/>
          <p:nvPr/>
        </p:nvSpPr>
        <p:spPr>
          <a:xfrm>
            <a:off x="4930920" y="4726080"/>
            <a:ext cx="50472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Cuadro de texto 14"/>
          <p:cNvSpPr/>
          <p:nvPr/>
        </p:nvSpPr>
        <p:spPr>
          <a:xfrm>
            <a:off x="5435640" y="177336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Citra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Cuadro de texto 15"/>
          <p:cNvSpPr/>
          <p:nvPr/>
        </p:nvSpPr>
        <p:spPr>
          <a:xfrm>
            <a:off x="5580000" y="2708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almitil-Co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Cuadro de texto 16"/>
          <p:cNvSpPr/>
          <p:nvPr/>
        </p:nvSpPr>
        <p:spPr>
          <a:xfrm>
            <a:off x="5580000" y="386064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Insul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Cuadro de texto 17"/>
          <p:cNvSpPr/>
          <p:nvPr/>
        </p:nvSpPr>
        <p:spPr>
          <a:xfrm>
            <a:off x="5580000" y="486900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Glucagón, Adrenal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Cuadro de texto 18"/>
          <p:cNvSpPr/>
          <p:nvPr/>
        </p:nvSpPr>
        <p:spPr>
          <a:xfrm>
            <a:off x="6732720" y="5877000"/>
            <a:ext cx="208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A.G. poliinsatur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Elipse 19"/>
          <p:cNvSpPr/>
          <p:nvPr/>
        </p:nvSpPr>
        <p:spPr>
          <a:xfrm>
            <a:off x="6083280" y="5948280"/>
            <a:ext cx="50472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BC9C-CFFB-4DC3-A986-CBB6125ABC17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2 Rectángulo"/>
          <p:cNvSpPr/>
          <p:nvPr/>
        </p:nvSpPr>
        <p:spPr>
          <a:xfrm>
            <a:off x="179280" y="549360"/>
            <a:ext cx="87138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c000"/>
                </a:solidFill>
                <a:latin typeface="Arial Rounded MT Bold"/>
              </a:rPr>
              <a:t>La regulación hormonal produce un </a:t>
            </a:r>
            <a:r>
              <a:rPr b="0" lang="es-AR" sz="2000" spc="-1" strike="noStrike" u="sng">
                <a:solidFill>
                  <a:srgbClr val="ffc000"/>
                </a:solidFill>
                <a:uFillTx/>
                <a:latin typeface="Arial Rounded MT Bold"/>
              </a:rPr>
              <a:t>efecto inmediato</a:t>
            </a:r>
            <a:r>
              <a:rPr b="0" lang="es-AR" sz="2000" spc="-1" strike="noStrike">
                <a:solidFill>
                  <a:srgbClr val="ffc000"/>
                </a:solidFill>
                <a:latin typeface="Arial Rounded MT Bold"/>
              </a:rPr>
              <a:t>, de corto tiempo, a través de un mecanismo de fosforilación ó desfosforilación de la enzim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c000"/>
                </a:solidFill>
                <a:latin typeface="Arial Rounded MT Bold"/>
              </a:rPr>
              <a:t>La dieta actúa a nivel de la síntesis de la proteína enzimática por lo que el </a:t>
            </a:r>
            <a:r>
              <a:rPr b="0" lang="es-AR" sz="2000" spc="-1" strike="noStrike" u="sng">
                <a:solidFill>
                  <a:srgbClr val="ffc000"/>
                </a:solidFill>
                <a:uFillTx/>
                <a:latin typeface="Arial Rounded MT Bold"/>
              </a:rPr>
              <a:t>efecto es tardío ó mediato</a:t>
            </a:r>
            <a:r>
              <a:rPr b="0" lang="es-AR" sz="2000" spc="-1" strike="noStrike">
                <a:solidFill>
                  <a:srgbClr val="ffc000"/>
                </a:solidFill>
                <a:latin typeface="Arial Rounded MT Bold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c000"/>
                </a:solidFill>
                <a:latin typeface="Arial Rounded MT Bold"/>
              </a:rPr>
              <a:t>Así por ejemplo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1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1a1a"/>
                </a:solidFill>
                <a:latin typeface="Arial Rounded MT Bold"/>
              </a:rPr>
              <a:t>a)  una dieta rica en hidratos de carbono y/o proteínas, supera las necesidades energéticas de la célula, en consecuencia el acetil CoA que se produce en la degradación de dichos compuestos se utiliza para la síntesis de AG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c000"/>
                </a:solidFill>
                <a:latin typeface="Arial Rounded MT Bold"/>
              </a:rPr>
              <a:t>b) una dieta pobre en grasas no aporta la cantidad de lípidos suficientes para las distintas funciones celulares, en consecuencia se favorece la síntesis de ácidos gras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ángulo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000"/>
                </a:solidFill>
                <a:latin typeface="Arial"/>
                <a:ea typeface="Arial"/>
              </a:rPr>
              <a:t>ESQUEMA DE LA REGULACION DE LA BIOSINT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Cuadro de texto 5"/>
          <p:cNvSpPr/>
          <p:nvPr/>
        </p:nvSpPr>
        <p:spPr>
          <a:xfrm>
            <a:off x="3421080" y="1700280"/>
            <a:ext cx="107964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itra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Cuadro de texto 6"/>
          <p:cNvSpPr/>
          <p:nvPr/>
        </p:nvSpPr>
        <p:spPr>
          <a:xfrm>
            <a:off x="3276720" y="3166920"/>
            <a:ext cx="172872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cetil-Co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Cuadro de texto 7"/>
          <p:cNvSpPr/>
          <p:nvPr/>
        </p:nvSpPr>
        <p:spPr>
          <a:xfrm>
            <a:off x="3295800" y="4432320"/>
            <a:ext cx="172872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Malonil-Co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Cuadro de texto 8"/>
          <p:cNvSpPr/>
          <p:nvPr/>
        </p:nvSpPr>
        <p:spPr>
          <a:xfrm>
            <a:off x="3276720" y="5902200"/>
            <a:ext cx="201600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Palmitoil-Co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Línea 9"/>
          <p:cNvSpPr/>
          <p:nvPr/>
        </p:nvSpPr>
        <p:spPr>
          <a:xfrm>
            <a:off x="3924360" y="2276640"/>
            <a:ext cx="0" cy="720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Línea 10"/>
          <p:cNvSpPr/>
          <p:nvPr/>
        </p:nvSpPr>
        <p:spPr>
          <a:xfrm>
            <a:off x="3995640" y="3645000"/>
            <a:ext cx="0" cy="720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Línea 11"/>
          <p:cNvSpPr/>
          <p:nvPr/>
        </p:nvSpPr>
        <p:spPr>
          <a:xfrm>
            <a:off x="4067280" y="5084640"/>
            <a:ext cx="0" cy="179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Cuadro de texto 12"/>
          <p:cNvSpPr/>
          <p:nvPr/>
        </p:nvSpPr>
        <p:spPr>
          <a:xfrm>
            <a:off x="4067280" y="2349360"/>
            <a:ext cx="16570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ff"/>
                </a:solidFill>
                <a:latin typeface="Arial"/>
                <a:ea typeface="Arial"/>
              </a:rPr>
              <a:t>Citrato liasa</a:t>
            </a:r>
            <a:r>
              <a:rPr b="0" lang="es-ES" sz="18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Cuadro de texto 13"/>
          <p:cNvSpPr/>
          <p:nvPr/>
        </p:nvSpPr>
        <p:spPr>
          <a:xfrm>
            <a:off x="4140360" y="3789360"/>
            <a:ext cx="287964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ff"/>
                </a:solidFill>
                <a:latin typeface="Arial"/>
                <a:ea typeface="Arial"/>
              </a:rPr>
              <a:t>Acetil-CoA carboxilasa</a:t>
            </a:r>
            <a:r>
              <a:rPr b="0" lang="es-ES" sz="18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Línea 14"/>
          <p:cNvSpPr/>
          <p:nvPr/>
        </p:nvSpPr>
        <p:spPr>
          <a:xfrm>
            <a:off x="4067280" y="5300640"/>
            <a:ext cx="0" cy="1792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Línea 15"/>
          <p:cNvSpPr/>
          <p:nvPr/>
        </p:nvSpPr>
        <p:spPr>
          <a:xfrm>
            <a:off x="4067280" y="5554800"/>
            <a:ext cx="0" cy="1792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Línea 16"/>
          <p:cNvSpPr/>
          <p:nvPr/>
        </p:nvSpPr>
        <p:spPr>
          <a:xfrm>
            <a:off x="6443640" y="4653000"/>
            <a:ext cx="0" cy="144000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Línea 17"/>
          <p:cNvSpPr/>
          <p:nvPr/>
        </p:nvSpPr>
        <p:spPr>
          <a:xfrm>
            <a:off x="5508720" y="6093000"/>
            <a:ext cx="9349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Elipse 18"/>
          <p:cNvSpPr/>
          <p:nvPr/>
        </p:nvSpPr>
        <p:spPr>
          <a:xfrm>
            <a:off x="6156360" y="4149720"/>
            <a:ext cx="50472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Cuadro de texto 19"/>
          <p:cNvSpPr/>
          <p:nvPr/>
        </p:nvSpPr>
        <p:spPr>
          <a:xfrm>
            <a:off x="7415280" y="393372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Glucagón, Adrenal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Línea 20"/>
          <p:cNvSpPr/>
          <p:nvPr/>
        </p:nvSpPr>
        <p:spPr>
          <a:xfrm flipH="1">
            <a:off x="6804000" y="4365720"/>
            <a:ext cx="432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Línea 21"/>
          <p:cNvSpPr/>
          <p:nvPr/>
        </p:nvSpPr>
        <p:spPr>
          <a:xfrm>
            <a:off x="5292720" y="1844640"/>
            <a:ext cx="0" cy="43200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Línea 22"/>
          <p:cNvSpPr/>
          <p:nvPr/>
        </p:nvSpPr>
        <p:spPr>
          <a:xfrm>
            <a:off x="4643280" y="1844640"/>
            <a:ext cx="649440" cy="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Elipse 23"/>
          <p:cNvSpPr/>
          <p:nvPr/>
        </p:nvSpPr>
        <p:spPr>
          <a:xfrm>
            <a:off x="5435640" y="1700280"/>
            <a:ext cx="50472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Línea 24"/>
          <p:cNvSpPr/>
          <p:nvPr/>
        </p:nvSpPr>
        <p:spPr>
          <a:xfrm>
            <a:off x="2700360" y="3933720"/>
            <a:ext cx="1224000" cy="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Línea 25"/>
          <p:cNvSpPr/>
          <p:nvPr/>
        </p:nvSpPr>
        <p:spPr>
          <a:xfrm flipH="1">
            <a:off x="2700360" y="1844640"/>
            <a:ext cx="503280" cy="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Línea 26"/>
          <p:cNvSpPr/>
          <p:nvPr/>
        </p:nvSpPr>
        <p:spPr>
          <a:xfrm>
            <a:off x="2700360" y="1844640"/>
            <a:ext cx="0" cy="208908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Elipse 27"/>
          <p:cNvSpPr/>
          <p:nvPr/>
        </p:nvSpPr>
        <p:spPr>
          <a:xfrm>
            <a:off x="2124000" y="2708280"/>
            <a:ext cx="50508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Cuadro de texto 28"/>
          <p:cNvSpPr/>
          <p:nvPr/>
        </p:nvSpPr>
        <p:spPr>
          <a:xfrm>
            <a:off x="6300720" y="1700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Insul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Línea 29"/>
          <p:cNvSpPr/>
          <p:nvPr/>
        </p:nvSpPr>
        <p:spPr>
          <a:xfrm flipH="1">
            <a:off x="2123640" y="4653000"/>
            <a:ext cx="10796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Rectángulo 30"/>
          <p:cNvSpPr/>
          <p:nvPr/>
        </p:nvSpPr>
        <p:spPr>
          <a:xfrm>
            <a:off x="0" y="4730760"/>
            <a:ext cx="2109960" cy="93672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Carnitin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Acil transferasa 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(Acil. CoA al interior de l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Mitocondria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Elipse 31"/>
          <p:cNvSpPr/>
          <p:nvPr/>
        </p:nvSpPr>
        <p:spPr>
          <a:xfrm>
            <a:off x="2484360" y="4869000"/>
            <a:ext cx="505080" cy="43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Línea 32"/>
          <p:cNvSpPr/>
          <p:nvPr/>
        </p:nvSpPr>
        <p:spPr>
          <a:xfrm>
            <a:off x="5940360" y="220500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E3C5-BCAF-4506-A0A7-B112979451D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3" name="Picture 2" descr=""/>
          <p:cNvPicPr/>
          <p:nvPr/>
        </p:nvPicPr>
        <p:blipFill>
          <a:blip r:embed="rId1"/>
          <a:stretch/>
        </p:blipFill>
        <p:spPr>
          <a:xfrm>
            <a:off x="347760" y="260280"/>
            <a:ext cx="85453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E4AD-40B7-4FF1-9D04-978F233094DC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5" name="Picture 2" descr=""/>
          <p:cNvPicPr/>
          <p:nvPr/>
        </p:nvPicPr>
        <p:blipFill>
          <a:blip r:embed="rId1"/>
          <a:stretch/>
        </p:blipFill>
        <p:spPr>
          <a:xfrm>
            <a:off x="468360" y="351000"/>
            <a:ext cx="8136000" cy="6102360"/>
          </a:xfrm>
          <a:prstGeom prst="rect">
            <a:avLst/>
          </a:prstGeom>
          <a:ln w="0">
            <a:noFill/>
          </a:ln>
        </p:spPr>
      </p:pic>
      <p:sp>
        <p:nvSpPr>
          <p:cNvPr id="1056" name="3 Conector recto"/>
          <p:cNvSpPr/>
          <p:nvPr/>
        </p:nvSpPr>
        <p:spPr>
          <a:xfrm>
            <a:off x="3276720" y="2205000"/>
            <a:ext cx="7905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4 CuadroTexto"/>
          <p:cNvSpPr/>
          <p:nvPr/>
        </p:nvSpPr>
        <p:spPr>
          <a:xfrm>
            <a:off x="6165720" y="4230720"/>
            <a:ext cx="143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600" spc="-1" strike="noStrike">
                <a:solidFill>
                  <a:srgbClr val="ff3300"/>
                </a:solidFill>
                <a:latin typeface="Arial"/>
                <a:ea typeface="Arial"/>
              </a:rPr>
              <a:t>deshidra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993080" cy="115272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 Narrow"/>
              </a:rPr>
              <a:t>METABOLISMO DE LIPIDOS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280360" cy="446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Biosíntesis de ácidos grasos saturad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Complejo multienzimático: Acido graso sintas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Regulación hormon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Requerimientos energétic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152C-91A4-4E5A-BB91-0E57CA650BF2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9" name="Picture 2" descr=""/>
          <p:cNvPicPr/>
          <p:nvPr/>
        </p:nvPicPr>
        <p:blipFill>
          <a:blip r:embed="rId1"/>
          <a:stretch/>
        </p:blipFill>
        <p:spPr>
          <a:xfrm>
            <a:off x="684360" y="512640"/>
            <a:ext cx="7848360" cy="5886720"/>
          </a:xfrm>
          <a:prstGeom prst="rect">
            <a:avLst/>
          </a:prstGeom>
          <a:ln w="0">
            <a:noFill/>
          </a:ln>
        </p:spPr>
      </p:pic>
      <p:sp>
        <p:nvSpPr>
          <p:cNvPr id="1060" name="2 CuadroTexto"/>
          <p:cNvSpPr/>
          <p:nvPr/>
        </p:nvSpPr>
        <p:spPr>
          <a:xfrm>
            <a:off x="7815960" y="37893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R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7A20-F124-4F9C-8D3D-8DD421A2C1D7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2" name="Picture 3" descr=""/>
          <p:cNvPicPr/>
          <p:nvPr/>
        </p:nvPicPr>
        <p:blipFill>
          <a:blip r:embed="rId1"/>
          <a:stretch/>
        </p:blipFill>
        <p:spPr>
          <a:xfrm>
            <a:off x="1403280" y="84240"/>
            <a:ext cx="6408720" cy="66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A467-3699-48CF-A9D7-E4BC2880D5D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2 Rectángulo"/>
          <p:cNvSpPr/>
          <p:nvPr/>
        </p:nvSpPr>
        <p:spPr>
          <a:xfrm>
            <a:off x="108000" y="122400"/>
            <a:ext cx="8712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s vegetales tienen las enzimas necesarias para producir insaturaciones desde la posición 9 del ácido graso hacia el carbono </a:t>
            </a:r>
            <a:r>
              <a:rPr b="1" lang="es-AR" sz="24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metilo terminal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r ejemplo, a partir del ácido oleico pueden sintetizar los ácidos: linoleico (18:2,  </a:t>
            </a:r>
            <a:r>
              <a:rPr b="1" lang="es-AR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9.12) y linolénico (18:3, </a:t>
            </a:r>
            <a:r>
              <a:rPr b="1" lang="es-AR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9,12,15)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s mamíferos no pueden sintetizarlos y por ello se consideran a los mismos,  ácidos grasos esenciales debiendo ser provistos por la diet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l ácido araquidónico (20:4 </a:t>
            </a:r>
            <a:r>
              <a:rPr b="1" lang="es-AR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, 8, 11, 14) es parcialmente indispensable ya que el organismo puede sintetizarlo si dispone de ácido linoleic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 animales la nueva doble unión se introduce entre la ya existente, en la porción de cadena proximal  al grupo carboxi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F938-33A9-4DFE-A440-78AF9614DCA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2 CuadroTexto"/>
          <p:cNvSpPr/>
          <p:nvPr/>
        </p:nvSpPr>
        <p:spPr>
          <a:xfrm>
            <a:off x="179280" y="0"/>
            <a:ext cx="8964720" cy="68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NCIONES BIOLOGICAS DE  AG POLIINSATUR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N AG ESCENC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EGRAN LÍPIDOS ESTRUCTURALES EN LAS CÉLULAS </a:t>
            </a:r>
            <a:r>
              <a:rPr b="1" lang="es-AR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MEMBRA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N PRECURSORES DE PROSTAGLANDINAS, TROMBOXANOS Y LEUCOTRIE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RTICIPAN EN LA CONSTITUCIÓN DE LOS ÉSTERES DE COLESTEROL EN PLASMA SANGUÍNE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 GENERAN ISÓMEROS TRANS EN EL PROCESO DE HIDROGENACIÓN DE ACEITES NATURALES </a:t>
            </a:r>
            <a:r>
              <a:rPr b="1" lang="es-AR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L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3 Flecha arriba"/>
          <p:cNvSpPr/>
          <p:nvPr/>
        </p:nvSpPr>
        <p:spPr>
          <a:xfrm>
            <a:off x="7454880" y="5805360"/>
            <a:ext cx="285840" cy="574920"/>
          </a:xfrm>
          <a:prstGeom prst="upArrow">
            <a:avLst>
              <a:gd name="adj1" fmla="val 50000"/>
              <a:gd name="adj2" fmla="val 49818"/>
            </a:avLst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C3D4-8348-4481-BEF7-B970BBE3DD1A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/>
          </p:nvPr>
        </p:nvSpPr>
        <p:spPr>
          <a:xfrm>
            <a:off x="0" y="174600"/>
            <a:ext cx="9144000" cy="667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uando la ingesta supera las necesidades energéticas, el exceso se almacena como reserva en forma de gras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Los restos de acetil-CoA provenientes de la </a:t>
            </a:r>
            <a:r>
              <a:rPr b="1" lang="el-GR" sz="2400" spc="-1" strike="noStrike">
                <a:solidFill>
                  <a:srgbClr val="ffff00"/>
                </a:solidFill>
                <a:latin typeface="Arial"/>
                <a:ea typeface="Arial"/>
              </a:rPr>
              <a:t>β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-oxidación y de la degradación de glucosa o de las cadenas carbonadas de algunos aac, pueden utilizarse para sintetizar nuevos A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stos se incorporan al glicerol para ser almacenados como grasa de depósi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La síntesis de AG de hasta 16 C ocurre en el citoplasma y se conoce como SINTESIS DE NO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La elongación de AG se lleva a cabo en las membranas del REL y la de los AG preexistentes se realiza en las mitocondri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 Narrow"/>
              </a:rPr>
              <a:t>Características generales de la Biosíntesis de ácidos grasos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07" name="Cuadro de texto 3"/>
          <p:cNvSpPr/>
          <p:nvPr/>
        </p:nvSpPr>
        <p:spPr>
          <a:xfrm>
            <a:off x="407880" y="26719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La biosíntesis de AG (lipogénesis)  tiene lugar en el CITOSOL, en plantas en los CLOROPLA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Cuadro de texto 4"/>
          <p:cNvSpPr/>
          <p:nvPr/>
        </p:nvSpPr>
        <p:spPr>
          <a:xfrm>
            <a:off x="468360" y="368316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s un proceso endergónico: Utiliza  AT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Cuadro de texto 5"/>
          <p:cNvSpPr/>
          <p:nvPr/>
        </p:nvSpPr>
        <p:spPr>
          <a:xfrm>
            <a:off x="4191120" y="32767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Cuadro de texto 6"/>
          <p:cNvSpPr/>
          <p:nvPr/>
        </p:nvSpPr>
        <p:spPr>
          <a:xfrm>
            <a:off x="496800" y="454644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Consume equivalentes de reducción : NAD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Cuadro de texto 7"/>
          <p:cNvSpPr/>
          <p:nvPr/>
        </p:nvSpPr>
        <p:spPr>
          <a:xfrm>
            <a:off x="407880" y="55306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s activa cuando el aporte energético es superior a las necesidades de la célul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Cuadro de texto 8"/>
          <p:cNvSpPr/>
          <p:nvPr/>
        </p:nvSpPr>
        <p:spPr>
          <a:xfrm>
            <a:off x="395280" y="1773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s muy activa en hígado, tejido adiposo, glándula mam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24720" cy="633564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Los 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AG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se sintetizan en citosol a partir de acetil-CoA, por adición sucesiva de estos fragmentos de 2 carbonos al extremo carboxilo de la cadena en crecimie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l Acetil-CoA que se produce en mitocondria debe estar disponible en citos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La membrana mitocondrial interna es impermeable a acetil-Co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l citrato es el compuesto que permite disponer de Acetil-CoA en citoso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7 Rectángulo"/>
          <p:cNvSpPr/>
          <p:nvPr/>
        </p:nvSpPr>
        <p:spPr>
          <a:xfrm>
            <a:off x="6093000" y="3179880"/>
            <a:ext cx="792000" cy="285480"/>
          </a:xfrm>
          <a:prstGeom prst="rect">
            <a:avLst/>
          </a:prstGeom>
          <a:solidFill>
            <a:srgbClr val="777777"/>
          </a:solidFill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6 Rectángulo"/>
          <p:cNvSpPr/>
          <p:nvPr/>
        </p:nvSpPr>
        <p:spPr>
          <a:xfrm>
            <a:off x="6156360" y="3073320"/>
            <a:ext cx="792000" cy="284400"/>
          </a:xfrm>
          <a:prstGeom prst="rect">
            <a:avLst/>
          </a:prstGeom>
          <a:solidFill>
            <a:srgbClr val="777777"/>
          </a:solidFill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6" name="Imagen 4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7273800" cy="5883120"/>
          </a:xfrm>
          <a:prstGeom prst="rect">
            <a:avLst/>
          </a:prstGeom>
          <a:ln w="9360">
            <a:solidFill>
              <a:srgbClr val="ff1a1a"/>
            </a:solidFill>
            <a:miter/>
          </a:ln>
        </p:spPr>
      </p:pic>
      <p:sp>
        <p:nvSpPr>
          <p:cNvPr id="817" name="Cuadro de texto 6"/>
          <p:cNvSpPr/>
          <p:nvPr/>
        </p:nvSpPr>
        <p:spPr>
          <a:xfrm>
            <a:off x="3348000" y="2492280"/>
            <a:ext cx="90000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Citrato sin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Cuadro de texto 7"/>
          <p:cNvSpPr/>
          <p:nvPr/>
        </p:nvSpPr>
        <p:spPr>
          <a:xfrm>
            <a:off x="5508720" y="2492280"/>
            <a:ext cx="86364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Citrato li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1 Estrella de 5 puntas"/>
          <p:cNvSpPr/>
          <p:nvPr/>
        </p:nvSpPr>
        <p:spPr>
          <a:xfrm>
            <a:off x="5796000" y="4491000"/>
            <a:ext cx="863640" cy="647640"/>
          </a:xfrm>
          <a:custGeom>
            <a:avLst/>
            <a:gdLst/>
            <a:ahLst/>
            <a:rect l="l" t="t" r="r" b="b"/>
            <a:pathLst>
              <a:path w="684076" h="648072">
                <a:moveTo>
                  <a:pt x="1" y="247541"/>
                </a:moveTo>
                <a:lnTo>
                  <a:pt x="252730" y="235799"/>
                </a:lnTo>
                <a:lnTo>
                  <a:pt x="342038" y="0"/>
                </a:lnTo>
                <a:lnTo>
                  <a:pt x="431346" y="235799"/>
                </a:lnTo>
                <a:lnTo>
                  <a:pt x="684075" y="247541"/>
                </a:lnTo>
                <a:lnTo>
                  <a:pt x="486542" y="405015"/>
                </a:lnTo>
                <a:lnTo>
                  <a:pt x="553429" y="648070"/>
                </a:lnTo>
                <a:lnTo>
                  <a:pt x="342038" y="509596"/>
                </a:lnTo>
                <a:lnTo>
                  <a:pt x="130647" y="648070"/>
                </a:lnTo>
                <a:lnTo>
                  <a:pt x="197534" y="405015"/>
                </a:lnTo>
                <a:lnTo>
                  <a:pt x="1" y="247541"/>
                </a:lnTo>
                <a:close/>
              </a:path>
            </a:pathLst>
          </a:custGeom>
          <a:noFill/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1 Rectángulo"/>
          <p:cNvSpPr/>
          <p:nvPr/>
        </p:nvSpPr>
        <p:spPr>
          <a:xfrm>
            <a:off x="324000" y="11592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  <a:ea typeface="Arial"/>
              </a:rPr>
              <a:t>SALIDA DE ACETILOS DE LA MITOCONDRIA AL CITOS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  <a:ea typeface="Arial"/>
              </a:rPr>
              <a:t>LANZADERA DE CITRA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1" name="3 Conector recto de flecha"/>
          <p:cNvCxnSpPr/>
          <p:nvPr/>
        </p:nvCxnSpPr>
        <p:spPr>
          <a:xfrm flipH="1" flipV="1">
            <a:off x="6318000" y="5589000"/>
            <a:ext cx="342000" cy="43236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arrow" w="med"/>
          </a:ln>
        </p:spPr>
      </p:cxnSp>
      <p:cxnSp>
        <p:nvCxnSpPr>
          <p:cNvPr id="822" name="5 Conector recto de flecha"/>
          <p:cNvCxnSpPr/>
          <p:nvPr/>
        </p:nvCxnSpPr>
        <p:spPr>
          <a:xfrm flipH="1" flipV="1">
            <a:off x="7092720" y="5229360"/>
            <a:ext cx="72000" cy="57636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arrow" w="med"/>
          </a:ln>
        </p:spPr>
      </p:cxnSp>
      <p:sp>
        <p:nvSpPr>
          <p:cNvPr id="823" name="1 CuadroTexto"/>
          <p:cNvSpPr/>
          <p:nvPr/>
        </p:nvSpPr>
        <p:spPr>
          <a:xfrm>
            <a:off x="2198520" y="4699080"/>
            <a:ext cx="51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Biotin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3 CuadroTexto"/>
          <p:cNvSpPr/>
          <p:nvPr/>
        </p:nvSpPr>
        <p:spPr>
          <a:xfrm>
            <a:off x="3448800" y="180324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5" name="5 Conector recto de flecha"/>
          <p:cNvCxnSpPr/>
          <p:nvPr/>
        </p:nvCxnSpPr>
        <p:spPr>
          <a:xfrm flipV="1">
            <a:off x="3924000" y="1802880"/>
            <a:ext cx="1080" cy="18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 Narrow"/>
              </a:rPr>
              <a:t>Relación entre el Metabolismo de los H. de C. y la Biosíntesis de Ácidos Grasos</a:t>
            </a:r>
            <a:endParaRPr b="1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827" name="Imagen 4" descr="fi18p22"/>
          <p:cNvPicPr/>
          <p:nvPr/>
        </p:nvPicPr>
        <p:blipFill>
          <a:blip r:embed="rId1"/>
          <a:stretch/>
        </p:blipFill>
        <p:spPr>
          <a:xfrm>
            <a:off x="1295280" y="1447920"/>
            <a:ext cx="6912000" cy="5016240"/>
          </a:xfrm>
          <a:prstGeom prst="rect">
            <a:avLst/>
          </a:prstGeom>
          <a:ln w="0">
            <a:noFill/>
          </a:ln>
        </p:spPr>
      </p:pic>
      <p:sp>
        <p:nvSpPr>
          <p:cNvPr id="828" name="Cuadro de texto 7"/>
          <p:cNvSpPr/>
          <p:nvPr/>
        </p:nvSpPr>
        <p:spPr>
          <a:xfrm>
            <a:off x="990720" y="2362320"/>
            <a:ext cx="1295280" cy="368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CITOS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Cuadro de texto 8"/>
          <p:cNvSpPr/>
          <p:nvPr/>
        </p:nvSpPr>
        <p:spPr>
          <a:xfrm>
            <a:off x="1752480" y="1752480"/>
            <a:ext cx="160020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GLICOLI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Cuadro de texto 9"/>
          <p:cNvSpPr/>
          <p:nvPr/>
        </p:nvSpPr>
        <p:spPr>
          <a:xfrm>
            <a:off x="7086600" y="1905120"/>
            <a:ext cx="167652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Sintesis de ácidos gra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Rectángulo 10"/>
          <p:cNvSpPr/>
          <p:nvPr/>
        </p:nvSpPr>
        <p:spPr>
          <a:xfrm>
            <a:off x="3124080" y="1447920"/>
            <a:ext cx="160020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arbohidra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Rectángulo 11"/>
          <p:cNvSpPr/>
          <p:nvPr/>
        </p:nvSpPr>
        <p:spPr>
          <a:xfrm>
            <a:off x="3352680" y="2057400"/>
            <a:ext cx="12193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iruv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Rectángulo 12"/>
          <p:cNvSpPr/>
          <p:nvPr/>
        </p:nvSpPr>
        <p:spPr>
          <a:xfrm>
            <a:off x="3276720" y="2971800"/>
            <a:ext cx="114300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iruv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Rectángulo 13"/>
          <p:cNvSpPr/>
          <p:nvPr/>
        </p:nvSpPr>
        <p:spPr>
          <a:xfrm>
            <a:off x="1104840" y="4145040"/>
            <a:ext cx="1067040" cy="609480"/>
          </a:xfrm>
          <a:prstGeom prst="rect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Cuerp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cetón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Cuadro de texto 14"/>
          <p:cNvSpPr/>
          <p:nvPr/>
        </p:nvSpPr>
        <p:spPr>
          <a:xfrm>
            <a:off x="2286000" y="4648320"/>
            <a:ext cx="137160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cetogéne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Cuadro de texto 15"/>
          <p:cNvSpPr/>
          <p:nvPr/>
        </p:nvSpPr>
        <p:spPr>
          <a:xfrm>
            <a:off x="4191120" y="3930480"/>
            <a:ext cx="137160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Symbol"/>
                <a:ea typeface="Symbol"/>
              </a:rPr>
              <a:t>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oxid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Cuadro de texto 16"/>
          <p:cNvSpPr/>
          <p:nvPr/>
        </p:nvSpPr>
        <p:spPr>
          <a:xfrm>
            <a:off x="1752480" y="5181480"/>
            <a:ext cx="1600200" cy="30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MITOCONDR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Cuadro de texto 17"/>
          <p:cNvSpPr/>
          <p:nvPr/>
        </p:nvSpPr>
        <p:spPr>
          <a:xfrm>
            <a:off x="3429000" y="4295880"/>
            <a:ext cx="1574640" cy="368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cetil-C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Cuadro de texto 18"/>
          <p:cNvSpPr/>
          <p:nvPr/>
        </p:nvSpPr>
        <p:spPr>
          <a:xfrm>
            <a:off x="6248520" y="4281480"/>
            <a:ext cx="12952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cetil-Co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Cuadro de texto 19"/>
          <p:cNvSpPr/>
          <p:nvPr/>
        </p:nvSpPr>
        <p:spPr>
          <a:xfrm>
            <a:off x="5486400" y="4952880"/>
            <a:ext cx="9144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Citra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Cuadro de texto 20"/>
          <p:cNvSpPr/>
          <p:nvPr/>
        </p:nvSpPr>
        <p:spPr>
          <a:xfrm>
            <a:off x="4343400" y="4952880"/>
            <a:ext cx="7621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Citra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Cuadro de texto 21"/>
          <p:cNvSpPr/>
          <p:nvPr/>
        </p:nvSpPr>
        <p:spPr>
          <a:xfrm>
            <a:off x="7010280" y="5334120"/>
            <a:ext cx="14479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Oxalaceta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Cuadro de texto 23"/>
          <p:cNvSpPr/>
          <p:nvPr/>
        </p:nvSpPr>
        <p:spPr>
          <a:xfrm>
            <a:off x="6173640" y="1236600"/>
            <a:ext cx="114300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Ácidos gras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Rectángulo 24"/>
          <p:cNvSpPr/>
          <p:nvPr/>
        </p:nvSpPr>
        <p:spPr>
          <a:xfrm>
            <a:off x="5791320" y="2133720"/>
            <a:ext cx="106668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cil-Co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Rectángulo 25"/>
          <p:cNvSpPr/>
          <p:nvPr/>
        </p:nvSpPr>
        <p:spPr>
          <a:xfrm>
            <a:off x="5486400" y="3276720"/>
            <a:ext cx="13716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cil- Carnit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Rectángulo 26"/>
          <p:cNvSpPr/>
          <p:nvPr/>
        </p:nvSpPr>
        <p:spPr>
          <a:xfrm>
            <a:off x="4267080" y="3352680"/>
            <a:ext cx="114300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cil-Co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79280" y="44280"/>
            <a:ext cx="874872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 Narrow"/>
              </a:rPr>
              <a:t>Procedencia de Acetil CoA, Enzimas y Poder reductor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85316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ITRA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CITRATO LIAS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Acetil-CoA CARBOXIL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ACIDO GRASO SINT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NAD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Autoforma 12"/>
          <p:cNvSpPr/>
          <p:nvPr/>
        </p:nvSpPr>
        <p:spPr>
          <a:xfrm>
            <a:off x="2268360" y="5738760"/>
            <a:ext cx="358920" cy="1119240"/>
          </a:xfrm>
          <a:custGeom>
            <a:avLst/>
            <a:gdLst>
              <a:gd name="textAreaLeft" fmla="*/ 229320 w 358920"/>
              <a:gd name="textAreaRight" fmla="*/ 359280 w 358920"/>
              <a:gd name="textAreaTop" fmla="*/ 29160 h 1119240"/>
              <a:gd name="textAreaBottom" fmla="*/ 1090080 h 111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Cuadro de texto 13"/>
          <p:cNvSpPr/>
          <p:nvPr/>
        </p:nvSpPr>
        <p:spPr>
          <a:xfrm>
            <a:off x="2700360" y="5734080"/>
            <a:ext cx="304812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Vía de las Pentos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Cuadro de texto 14"/>
          <p:cNvSpPr/>
          <p:nvPr/>
        </p:nvSpPr>
        <p:spPr>
          <a:xfrm>
            <a:off x="2781360" y="6296040"/>
            <a:ext cx="272736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nzima má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Línea 15"/>
          <p:cNvSpPr/>
          <p:nvPr/>
        </p:nvSpPr>
        <p:spPr>
          <a:xfrm>
            <a:off x="4859280" y="537372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Elipse 16"/>
          <p:cNvSpPr/>
          <p:nvPr/>
        </p:nvSpPr>
        <p:spPr>
          <a:xfrm>
            <a:off x="5940360" y="4869000"/>
            <a:ext cx="2376720" cy="12240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omplej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multienzimá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4" name="Grupo 31"/>
          <p:cNvGrpSpPr/>
          <p:nvPr/>
        </p:nvGrpSpPr>
        <p:grpSpPr>
          <a:xfrm>
            <a:off x="3122640" y="1052640"/>
            <a:ext cx="6021360" cy="2604960"/>
            <a:chOff x="3122640" y="1052640"/>
            <a:chExt cx="6021360" cy="2604960"/>
          </a:xfrm>
        </p:grpSpPr>
        <p:grpSp>
          <p:nvGrpSpPr>
            <p:cNvPr id="855" name="Grupo 29"/>
            <p:cNvGrpSpPr/>
            <p:nvPr/>
          </p:nvGrpSpPr>
          <p:grpSpPr>
            <a:xfrm>
              <a:off x="3122640" y="1052640"/>
              <a:ext cx="6021360" cy="1082160"/>
              <a:chOff x="3122640" y="1052640"/>
              <a:chExt cx="6021360" cy="1082160"/>
            </a:xfrm>
          </p:grpSpPr>
          <p:grpSp>
            <p:nvGrpSpPr>
              <p:cNvPr id="856" name="Grupo 26"/>
              <p:cNvGrpSpPr/>
              <p:nvPr/>
            </p:nvGrpSpPr>
            <p:grpSpPr>
              <a:xfrm>
                <a:off x="3122640" y="1690560"/>
                <a:ext cx="6021360" cy="444240"/>
                <a:chOff x="3122640" y="1690560"/>
                <a:chExt cx="6021360" cy="444240"/>
              </a:xfrm>
            </p:grpSpPr>
            <p:sp>
              <p:nvSpPr>
                <p:cNvPr id="857" name="Autoforma 4"/>
                <p:cNvSpPr/>
                <p:nvPr/>
              </p:nvSpPr>
              <p:spPr>
                <a:xfrm>
                  <a:off x="3122640" y="1766520"/>
                  <a:ext cx="990720" cy="304920"/>
                </a:xfrm>
                <a:custGeom>
                  <a:avLst/>
                  <a:gdLst>
                    <a:gd name="textAreaLeft" fmla="*/ 173160 w 990720"/>
                    <a:gd name="textAreaRight" fmla="*/ 718200 w 990720"/>
                    <a:gd name="textAreaTop" fmla="*/ 40680 h 304920"/>
                    <a:gd name="textAreaBottom" fmla="*/ 26424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11880" y="0"/>
                      </a:lnTo>
                      <a:arcTo wR="7560" hR="21600" stAng="-5400000" swAng="2682637"/>
                      <a:lnTo>
                        <a:pt x="21168" y="14400"/>
                      </a:lnTo>
                      <a:lnTo>
                        <a:pt x="17280" y="21600"/>
                      </a:lnTo>
                      <a:lnTo>
                        <a:pt x="12528" y="14400"/>
                      </a:lnTo>
                      <a:lnTo>
                        <a:pt x="14688" y="14400"/>
                      </a:lnTo>
                      <a:arcTo wR="7560" hR="21600" stAng="-2717363" swAng="-2325203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  <a:path fill="darkenLess"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7560" y="0"/>
                      </a:lnTo>
                      <a:arcTo wR="7560" hR="21600" stAng="-5400000" swAng="357435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Cuadro de texto 5"/>
                <p:cNvSpPr/>
                <p:nvPr/>
              </p:nvSpPr>
              <p:spPr>
                <a:xfrm>
                  <a:off x="4418280" y="1766520"/>
                  <a:ext cx="1752480" cy="368280"/>
                </a:xfrm>
                <a:prstGeom prst="rect">
                  <a:avLst/>
                </a:prstGeom>
                <a:solidFill>
                  <a:srgbClr val="f9f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CETIL-CoA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Cuadro de texto 6"/>
                <p:cNvSpPr/>
                <p:nvPr/>
              </p:nvSpPr>
              <p:spPr>
                <a:xfrm>
                  <a:off x="7391520" y="1766520"/>
                  <a:ext cx="1752480" cy="368280"/>
                </a:xfrm>
                <a:prstGeom prst="rect">
                  <a:avLst/>
                </a:prstGeom>
                <a:solidFill>
                  <a:srgbClr val="f9f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ALONIL-CoA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Autoforma 7"/>
                <p:cNvSpPr/>
                <p:nvPr/>
              </p:nvSpPr>
              <p:spPr>
                <a:xfrm>
                  <a:off x="6475680" y="1690560"/>
                  <a:ext cx="838080" cy="304560"/>
                </a:xfrm>
                <a:custGeom>
                  <a:avLst/>
                  <a:gdLst>
                    <a:gd name="textAreaLeft" fmla="*/ 146520 w 838080"/>
                    <a:gd name="textAreaRight" fmla="*/ 607680 w 838080"/>
                    <a:gd name="textAreaTop" fmla="*/ 40680 h 304560"/>
                    <a:gd name="textAreaBottom" fmla="*/ 2638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11880" y="0"/>
                      </a:lnTo>
                      <a:arcTo wR="7560" hR="21600" stAng="-5400000" swAng="2682637"/>
                      <a:lnTo>
                        <a:pt x="21168" y="14400"/>
                      </a:lnTo>
                      <a:lnTo>
                        <a:pt x="17280" y="21600"/>
                      </a:lnTo>
                      <a:lnTo>
                        <a:pt x="12528" y="14400"/>
                      </a:lnTo>
                      <a:lnTo>
                        <a:pt x="14688" y="14400"/>
                      </a:lnTo>
                      <a:arcTo wR="7560" hR="21600" stAng="-2717363" swAng="-2325203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  <a:path fill="darkenLess"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7560" y="0"/>
                      </a:lnTo>
                      <a:arcTo wR="7560" hR="21600" stAng="-5400000" swAng="357435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Elipse 8"/>
              <p:cNvSpPr/>
              <p:nvPr/>
            </p:nvSpPr>
            <p:spPr>
              <a:xfrm>
                <a:off x="6372360" y="1052640"/>
                <a:ext cx="914400" cy="60948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T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62" name="Autoforma 10"/>
            <p:cNvSpPr/>
            <p:nvPr/>
          </p:nvSpPr>
          <p:spPr>
            <a:xfrm rot="5278800">
              <a:off x="7619760" y="2512440"/>
              <a:ext cx="1066320" cy="304920"/>
            </a:xfrm>
            <a:custGeom>
              <a:avLst/>
              <a:gdLst>
                <a:gd name="textAreaLeft" fmla="*/ 166320 w 1066320"/>
                <a:gd name="textAreaRight" fmla="*/ 933120 w 106632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Cuadro de texto 11"/>
            <p:cNvSpPr/>
            <p:nvPr/>
          </p:nvSpPr>
          <p:spPr>
            <a:xfrm>
              <a:off x="7620120" y="3289320"/>
              <a:ext cx="1295280" cy="368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IL-Co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Línea 17"/>
            <p:cNvSpPr/>
            <p:nvPr/>
          </p:nvSpPr>
          <p:spPr>
            <a:xfrm>
              <a:off x="6170760" y="2060640"/>
              <a:ext cx="1904760" cy="53280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5" name="Grupo 30"/>
          <p:cNvGrpSpPr/>
          <p:nvPr/>
        </p:nvGrpSpPr>
        <p:grpSpPr>
          <a:xfrm>
            <a:off x="1403280" y="2900520"/>
            <a:ext cx="5426280" cy="1058040"/>
            <a:chOff x="1403280" y="2900520"/>
            <a:chExt cx="5426280" cy="1058040"/>
          </a:xfrm>
        </p:grpSpPr>
        <p:sp>
          <p:nvSpPr>
            <p:cNvPr id="866" name="Cuadro de texto 19"/>
            <p:cNvSpPr/>
            <p:nvPr/>
          </p:nvSpPr>
          <p:spPr>
            <a:xfrm>
              <a:off x="1403280" y="3260880"/>
              <a:ext cx="158436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ITR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Línea 20"/>
            <p:cNvSpPr/>
            <p:nvPr/>
          </p:nvSpPr>
          <p:spPr>
            <a:xfrm>
              <a:off x="3060720" y="3476520"/>
              <a:ext cx="15112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Cuadro de texto 21"/>
            <p:cNvSpPr/>
            <p:nvPr/>
          </p:nvSpPr>
          <p:spPr>
            <a:xfrm>
              <a:off x="5051520" y="2900520"/>
              <a:ext cx="17524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ETIL-Co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Cuadro de texto 22"/>
            <p:cNvSpPr/>
            <p:nvPr/>
          </p:nvSpPr>
          <p:spPr>
            <a:xfrm>
              <a:off x="5076720" y="3548160"/>
              <a:ext cx="175284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xalacetat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Cuadro de texto 23"/>
            <p:cNvSpPr/>
            <p:nvPr/>
          </p:nvSpPr>
          <p:spPr>
            <a:xfrm>
              <a:off x="5580000" y="32148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+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Cuadro de texto 24"/>
            <p:cNvSpPr/>
            <p:nvPr/>
          </p:nvSpPr>
          <p:spPr>
            <a:xfrm>
              <a:off x="2987640" y="3621240"/>
              <a:ext cx="187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TP      ADP + P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Autoforma 25"/>
            <p:cNvSpPr/>
            <p:nvPr/>
          </p:nvSpPr>
          <p:spPr>
            <a:xfrm>
              <a:off x="3492360" y="3548160"/>
              <a:ext cx="576360" cy="144360"/>
            </a:xfrm>
            <a:custGeom>
              <a:avLst/>
              <a:gdLst>
                <a:gd name="textAreaLeft" fmla="*/ 100800 w 576360"/>
                <a:gd name="textAreaRight" fmla="*/ 417960 w 576360"/>
                <a:gd name="textAreaTop" fmla="*/ 19080 h 144360"/>
                <a:gd name="textAreaBottom" fmla="*/ 12528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3" name="Línea 27"/>
          <p:cNvSpPr/>
          <p:nvPr/>
        </p:nvSpPr>
        <p:spPr>
          <a:xfrm>
            <a:off x="4932360" y="4581360"/>
            <a:ext cx="57636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Cuadro de texto 28"/>
          <p:cNvSpPr/>
          <p:nvPr/>
        </p:nvSpPr>
        <p:spPr>
          <a:xfrm>
            <a:off x="5508720" y="4292640"/>
            <a:ext cx="3406680" cy="4291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  <a:ea typeface="Arial"/>
              </a:rPr>
              <a:t>Síntesis de malonil-Co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2:06:53Z</dcterms:created>
  <dc:creator>Fanny</dc:creator>
  <dc:description/>
  <dc:language>en-US</dc:language>
  <cp:lastModifiedBy>Preferred Customer</cp:lastModifiedBy>
  <dcterms:modified xsi:type="dcterms:W3CDTF">2014-04-14T21:09:26Z</dcterms:modified>
  <cp:revision>167</cp:revision>
  <dc:subject/>
  <dc:title>Presentación de PowerPoint</dc:title>
</cp:coreProperties>
</file>